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209-B08C-4267-B565-44CB9007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513-E7CC-4516-9A5D-844439C0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EAE-BD7F-495E-86A1-FC3B5CB3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EC9-4B2A-4816-8E89-CA630EFC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32EA-E210-4929-8CEE-23B809D6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A252-A096-4F82-9B49-1C77CFDF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8172-3E7B-4573-9031-10A00411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8CB8-91D1-4453-A327-8038F536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661A-9A7F-4B47-A5AE-A3FFA7F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A416-59A8-4672-9D4A-931CD0C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6342-591B-45E4-BEF7-2333440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0C7-CBAE-415F-84C6-9D220483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5B27-878B-4A22-9A15-A07BFC4E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1CF5-9A42-49AB-BAC7-83D366B6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B02-4CA0-44ED-A078-F6C125B8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BAB8-8F76-4DED-A00A-7DC7D931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BDEB-49CA-4E6F-8C39-A0C7555B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C8A-DE74-47B0-A8C3-CA16A216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C72-333A-461A-B4BA-A7D429DF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8AE-FCBC-455B-B3FD-6DFB3C53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BED-290F-447E-A082-915AD473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D6A-0A17-4261-BD11-D9EAC294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E5F-D3AC-4D44-BF3D-3BFA1FE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583-1D35-4484-8449-FA773886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7280" y="5949720"/>
            <a:ext cx="28954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E6E4-00D1-407F-98C4-5AC775A14B3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42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497A-3D77-42D4-B084-7509ADB8DD27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europa.eu/abc/symbols/emblem/images/europ_flag/jaune.jpg"/>
          <p:cNvPicPr/>
          <p:nvPr/>
        </p:nvPicPr>
        <p:blipFill>
          <a:blip r:embed="rId4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987280" y="5949720"/>
            <a:ext cx="28954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72F4-D56F-4ECD-B467-3C2A0B77F06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480" y="107136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PA KOMPONENTA IV – RAZVOJ LJUDSKIH POTENC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ogram Europske unije za Hrvat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tječaj za dodjelu bespovratnih sredst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aljnji razvoj i provedba Hrvatskog kvalifikacijskog okvira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nformativna radionica za potencijalne prijavitelje projek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258920" y="585000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adionice prov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ce.jpg"/>
          <p:cNvPicPr/>
          <p:nvPr/>
        </p:nvPicPr>
        <p:blipFill>
          <a:blip r:embed="rId1"/>
          <a:stretch/>
        </p:blipFill>
        <p:spPr>
          <a:xfrm>
            <a:off x="3035160" y="5732640"/>
            <a:ext cx="1320840" cy="79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WYG_International.png"/>
          <p:cNvPicPr/>
          <p:nvPr/>
        </p:nvPicPr>
        <p:blipFill>
          <a:blip r:embed="rId2"/>
          <a:stretch/>
        </p:blipFill>
        <p:spPr>
          <a:xfrm>
            <a:off x="4788000" y="5743440"/>
            <a:ext cx="2879640" cy="74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Predstavljanje sadržaja Uputa za prijavitelje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Guidelines for Applicants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br>
              <a:rPr sz="3600"/>
            </a:br>
            <a:br>
              <a:rPr sz="3600"/>
            </a:br>
            <a:r>
              <a:rPr b="1" lang="hr-HR" sz="44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Calibri"/>
              </a:rPr>
              <a:t> Daljnji razvoj i provedba Hrvatskog kvalifikacijskog okvira</a:t>
            </a:r>
            <a:r>
              <a:rPr b="1" lang="hr-HR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avila poziva natječ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avila podnošenja, odabira i provedbe projekata koji će se financirati o okviru ovog Poziva u skladu su s odredbama „Praktičnog vodiča kroz procedure ugovaranja pomući EZ trećim zemljama” (PRAG) koji je dostupan na internetskoj strani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http://ec.europa.eu/europeaid/work/procedures/implementation/practical_guide/index_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ljučna internetska stranica koju valja pratiti do kraja roka za podnošenje prijava na ovaj Poziv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http://www.aso.hr/defco/default.aspx?id=155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di mogućih objava ispravaka natječaja, dodatnih informacija te pitanja/odgo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Financijska alokacija natječ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kupan iznos raspoloživih sredstava je 4.400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eura, a alokacija po pojedinom „lotu” je sljedeć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58920" y="2492280"/>
          <a:ext cx="6697800" cy="1381320"/>
        </p:xfrm>
        <a:graphic>
          <a:graphicData uri="http://schemas.openxmlformats.org/drawingml/2006/table">
            <a:tbl>
              <a:tblPr/>
              <a:tblGrid>
                <a:gridCol w="1182600"/>
                <a:gridCol w="1838520"/>
                <a:gridCol w="1838160"/>
                <a:gridCol w="18385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spoloživi iz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niži iznos gr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viši iznos gr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0.0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.0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0.0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.0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3"/>
          <p:cNvSpPr/>
          <p:nvPr/>
        </p:nvSpPr>
        <p:spPr>
          <a:xfrm>
            <a:off x="611280" y="4521240"/>
            <a:ext cx="7848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govorno tijelo zadržava pravo da ne dodijeli sva sredstva, a postoji mogućnost i za proširenjem financijske aloka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Financijska alokacija natječ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Bespovratna sredstva koja se mogu dodijeliti pojedinačnom projektu u sklopu ovog Poziva moraju biti sufinancirana vlastitim sredstv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znos bespovratnih sredstava može se kretati u rasp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d minimalno 60% prihvatljivih troškova projekta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maksimalno 95% prihvatljivih troškova projek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Razliku moraju „pokriti” prijavitelji ili partneri vlastitim sredstvima ili sredstvima koja nisu iz proračuna Europske zajednice ili Europskog razvojnog fon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Financijska alokacija natječ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Ukupni prihvatljivi troškovi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ojekta su svi oni troškovi koji se predvide u proračunu projekta i, ovisno o udjelu sufinanciranja, mogu se kretati u sljedećem raspon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2565360"/>
          <a:ext cx="7632720" cy="2719440"/>
        </p:xfrm>
        <a:graphic>
          <a:graphicData uri="http://schemas.openxmlformats.org/drawingml/2006/table">
            <a:tbl>
              <a:tblPr/>
              <a:tblGrid>
                <a:gridCol w="1908000"/>
                <a:gridCol w="1908360"/>
                <a:gridCol w="1908000"/>
                <a:gridCol w="1908360"/>
              </a:tblGrid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nos</a:t>
                      </a:r>
                      <a:br>
                        <a:rPr sz="2000"/>
                      </a:b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nos</a:t>
                      </a:r>
                      <a:br>
                        <a:rPr sz="2000"/>
                      </a:b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nanciranja</a:t>
                      </a:r>
                      <a:br>
                        <a:rPr sz="2000"/>
                      </a:b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nos</a:t>
                      </a:r>
                      <a:br>
                        <a:rPr sz="2000"/>
                      </a:b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nanciranja</a:t>
                      </a:r>
                      <a:br>
                        <a:rPr sz="2000"/>
                      </a:b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9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0,00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631,58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33,33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000,00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1.052,63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6.666,67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78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0,00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631,58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33,33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000,00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1.052,63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6.666,67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Financijska alokacija natječ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javitelji moraju u fazi prijave sažetka projekta (Concept Note) predvidjeti (tj. napisati) samo iznos granta, odnosno traženi iznos bespovratnih sredsta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 kasnijoj fazi prijave Potpunog projektnog prijedloga (Full Application Form) ovaj iznos smije varirati ±20%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riteriji prihvatljiv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hvatljivost organizacij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javitelja i njihovih partnera) – poglavlja 2.1.1 i 2.1.2 Up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hvatljivost projekata/aktivnos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jima se mogu dodijeliti bespovratna sredstva) – poglavlje 2.1.3 Up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hvatljivost troškov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– poglavlje 2.1.4 Up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hvatljivi prijavitel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45584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Tahoma"/>
              </a:rPr>
              <a:t>pravne osobe,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Tahoma"/>
              </a:rPr>
              <a:t>ne smiju ostvariti profit od dobivenih bespovratnih sredstava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Tahoma"/>
              </a:rPr>
              <a:t>najmanje jedna vrst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organiza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Tahoma"/>
              </a:rPr>
              <a:t>cija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kao što s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hvatljivi prijavitel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268280"/>
          <a:ext cx="8280360" cy="4060800"/>
        </p:xfrm>
        <a:graphic>
          <a:graphicData uri="http://schemas.openxmlformats.org/drawingml/2006/table">
            <a:tbl>
              <a:tblPr/>
              <a:tblGrid>
                <a:gridCol w="814320"/>
                <a:gridCol w="7466040"/>
              </a:tblGrid>
              <a:tr h="614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rste prihvatljivih organ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65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ćeobrazovne ustanove (tj. 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snovne škole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i/ili gimnazije)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sokoškolske institucije koje provode programe obrazovanje za nastavnike/učitelje, javne institucije zadužene za razvoj/provedbu obrazovnih politika, istraživačke institucije koje djeluju na području obrazovanja, 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ionalna i lokalna samo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s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koškolske institucije (sveučilišta, sastavne jedinice  sveučilišta, veleučilišta, visoka učilišta; bez obzira na vlasništvo)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javne institucije zadužene za razvoj/provedbu obrazovnih politika, istraživačke institucije koje djeluju na području obraz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hvatljivi prijavitel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imati sjedište u državi članici Europske unije il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bani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osn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r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govin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Hrvatsk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Bivš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goslav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ensk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ubli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ke 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doni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, Srbi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Crne Go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ur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osov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em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u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ciji Vijeća Sigurnosti UN-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1244/99,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zemlje korisnice Europskog instrumenta za susjedstvo i partnerstv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države člani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urop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sko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om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sko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ostora (EEA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Ovo se pravilo na primjenjuje na međunarodne organizacij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dodat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forma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cij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a 8. stranici Uputa za prijavitelj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biti izravno odgovorni za pripremu i upravljanje projektnim aktivnostima sa svojim partnerima, a ne u funkciji posrednika,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e smiju biti u situacijama koje su opisane u članku 2.3.3 PRAG-a ili se nalaze u registrima sustava za rano upozorenje i baze za isključenje 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formativna radionica za potencijalne prijavitelje pro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1546200"/>
          <a:ext cx="8412120" cy="4672080"/>
        </p:xfrm>
        <a:graphic>
          <a:graphicData uri="http://schemas.openxmlformats.org/drawingml/2006/table">
            <a:tbl>
              <a:tblPr/>
              <a:tblGrid>
                <a:gridCol w="1008000"/>
                <a:gridCol w="4697280"/>
                <a:gridCol w="2706840"/>
              </a:tblGrid>
              <a:tr h="259920"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KVIRNI PROGRAM RADA - 1. 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rij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pis djela radion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ditelji / Govorn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31500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.30 – 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istracija i kava dobrodošl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 - 1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dstavljanje predstavnika/ica resornih institutcija, programa rada/metodolog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072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15 - 1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će informacije o natječaju iz djelokruga resornog ministarst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iljevi i prioriteti natječaja za dodjelu bespovratnih sredsta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dstavnik/ica Ministarstva znanosti, obrazovanja i špor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dstavnik/ica Agencije za strukovno obrazovanje i obrazovanje odraslih – DEF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00 - 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itanja i odgov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30 – 11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uza za kav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45 – 13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dstavljanje sadržaja Uputa za prijavitelje (</a:t>
                      </a:r>
                      <a:r>
                        <a:rPr b="0" i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uidelines for Applicants</a:t>
                      </a: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.00 - 1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uza za ruča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00 - 1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dstavljanje sadržaja Uputa za prijavitelje (</a:t>
                      </a:r>
                      <a:r>
                        <a:rPr b="0" i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uidelines for Applicants</a:t>
                      </a: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 – 2. 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.30 - 1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tanka za kav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.00 - 17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vod u proračun projekta / izrada okvirnog proračuna projek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hvatljivi prijavitel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seban zahtjev za prihvatljivost prijavitel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Lot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projektima koji uključuju aktivnosti </a:t>
            </a: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razvoja novih ili prilagodbe postojećih obrazovnih programa i modula za učenje stranih jezika zasnovanih na uporabi ishoda učenja, ECTS-bodova i radnog opterećenja studenata</a:t>
            </a:r>
            <a:r>
              <a:rPr b="0" lang="hr-HR" sz="2400" spc="-1" strike="noStrike">
                <a:solidFill>
                  <a:srgbClr val="558ed5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javitelj mora biti sveučiliš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hvatljivi partn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95280" y="1341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artnerstvo nije obavezn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artneri moraju udovoljavati istim kriterijima prihvatljivosti koji vrijede i za korisnika bespovratnih sredstava (prijavitelj projektnog prijedlog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artneri sudjeluju u izradi i provedbi projekta, te se troškovi koji pri tom nastaju smatraju prihvatljivima na isti način kao i troškovi korisnika bespovratnih sredstav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Sljedeće vrste organizacija također su prihvatljive kao partner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sve institucije navedene kao prihvatljivi prijavitelji bez obzira na L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institucije za predškolsko obrazovan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institucije za obrazovanje odrasli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srednje strukovne ško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instituti za istraživan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nevladine organizacije koje djeluju u području obrazovanja i usavršavanja, uključujući studentska udruž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zadrug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hvatljivi partn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5280" y="1341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Poseban zahtjev za partnerstv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Lot 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U slučajevima kada je prijavitelj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institucija visokog obrazovanja koja nudi izobrazbu za učitelje/profesore, i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istraživački institut koji izvodi institucionalnu ekspertizu u području obrazovanja i usavršav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ojekt mora imati najmanje dva partnera koji pripadaju u sljedeće kategorij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institucije za predškolsko obrazo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institucije za opće obrazo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regionalna ili lokalna samouprava odgovorna za škols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Nema posebnih zahtjeva za partnerstvom za Lot 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Suradnici i podugovaratel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" y="1600200"/>
            <a:ext cx="83628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urad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aju ulogu u projektu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i ne mogu dobiti potporu iz bespovratnih sredstava osim u obliku dnevnica ili nadoknade putnih troškov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 moraju udovoljavati kriterijima prihvatljivosti koji vrijede za prijavitel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raju biti navedeni, zajedno sa svojom ulogom u projektu, u Prijavnom obrascu (D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B,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djelj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5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radnici prijavitelja koji sudjeluju u projekt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Suradnici i podugovaratel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dugovaratelj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risnici bespovratnih sredstav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/ partneri imaju mogućnost sklopiti ugovor sa podugovarateljim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dugovaratelji nisu ni partneri niti suradni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risnici bespovratnih sredstava moraju slijediti pravila za javnu nabav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dat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V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nom ugovoru o dodjeli bespovratnih sredstav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j. korisnici nisu dužni slijediti hrvatski Zakon o javnoj nab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hvatljivost projek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68360" y="1197000"/>
            <a:ext cx="842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rajanje projekata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između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i 18 mjesec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kacija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projekti se moraju provoditi u Hrvatskoj; izuzeće su studijska putovanja koja se mogu odvijati i u drugim zemljama izvan. Trošak ovih aktivnosti je limitiran na 10% ukupnih prihvatljivih troškova projek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Projekti trebaju odgovarati specifičnim ciljevima i ciljnim skupinama ovog poziva na natječaj, tj. trebaju odgovarati na određene potrebe ciljne skup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Definirana su </a:t>
            </a:r>
            <a:r>
              <a:rPr b="0" lang="hr-HR" sz="2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 sektora/teme projekata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: predškolsko obrazovanje, opće osnovno i srednjoškolsko obrazovanje, visoko obrazovan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Kupnja potrebne opreme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i materijala limitirani su na maks. 26% ukupnih prihvatljivih troškova projek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stali uvje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1341360"/>
            <a:ext cx="84358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ojekt smije sadržavati prihvatljive aktivnosti koje se odnose samo na jedan lo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Korisnik bespovratnih sredstava mora poštovati pravila vidljivosti financiranja projekta od strane EU (vidi Priručnik: 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Tahoma"/>
              </a:rPr>
              <a:t>http://ec.europa.eu/europeaid/work/visibility/index_en.h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  <a:ea typeface="Tahoma"/>
              </a:rPr>
              <a:t>tm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ijavitelj ne može podnijeti više od jedne prijave po lo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ijavitelju ne može biti dodijeljeno više od jednog iznosa bespovratnih sredstava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o lo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ijavitelj istovremeno može biti partner u drugom projektnom prijedlog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tner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i mogu sudjelovati u više projektnih prijedlog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Ukoliko je prijavitelj hrvatsko sveučilište, ono može podnijeti više od jedne prijave projekta po lotu te mu se u istom slučaju može dodijeliti više od jednog iznosa bespovratnih sredstava po lo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hvatljiv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raju biti u skladu s troškovima navedenim u čl. 14 Općih uvjeta Ugovora o bespovratnim sredstvima (Dodatak F Uputa za prijavitelj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rez na dodanu vrijednost (samo u slučaju kada prijavitelj ili partneri mogu dokazati da ne mogu povratiti PDV; vidi str. 13 Upu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trebni za provedbu projekta i vezani na aktivnosti, trebaju se temeljiti na realnim cijen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ezerva za nepredviđene troškove smije biti maksimalno 5% predviđenih ukupnih direktnih prihvatljivih trošk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direktni troškovi (tj. administrativni troškovi) smiju iznositi maks. 7% ukupnih direktnih prihvatljivih trošk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hvatljiv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ventualni doprinosi u naravi nisu prihvatljivi troškovi, odnosno ne upisuju se u prorač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reba pogledati listu neprihvaljivih troškova (str. 13-14 Upu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jelatnici državnih/javnih institucija (u ulozi korisnika i partnera) ne smiju ostvarivati dodatne honorare, već se njihovo sudjelovanje u projektu može samo smatrati sufinanciranjem projekta i navodi se u proraču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ije dozvoljeno financiranje troškova koje financira neki drugi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201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ocedura prijave na natj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cedura koja se primjenjuje je tzv. restriktivna (dvostupanjska prijava projek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2. krug natječaja pozivaju se samo oni prijavitelji koji su u ocjenjivanju Sažetaka projekata (1. korak) ocijenjeni uspješ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6913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formativna radionica za potencijalne prijavitelje pro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495440"/>
          <a:ext cx="8424720" cy="4937040"/>
        </p:xfrm>
        <a:graphic>
          <a:graphicData uri="http://schemas.openxmlformats.org/drawingml/2006/table">
            <a:tbl>
              <a:tblPr/>
              <a:tblGrid>
                <a:gridCol w="934920"/>
                <a:gridCol w="5616720"/>
                <a:gridCol w="1873080"/>
              </a:tblGrid>
              <a:tr h="257040">
                <a:tc gridSpan="3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KVIRNI PROGRAM RADA - 2. 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rij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pis djela radion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oditelji / Govorn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677880">
                <a:tc>
                  <a:txBody>
                    <a:bodyPr lIns="62640" rIns="626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.00 - 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vod u faze projektnog ciklu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lementi koje čine projekt financiran iz EU progra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dstavljanje obrazca za prijavljivanje Projektnog sažetk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800">
                <a:tc>
                  <a:txBody>
                    <a:bodyPr lIns="62640" rIns="626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 – 1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finiranje opisa problema/potreba i ciljanih skupina projekta - relevantnost projek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aktična vježba – analiza konkretne studije slučaja: definiranje relevantnosti projekta na temelju pitanja u Projektnom sažetk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480">
                <a:tc>
                  <a:txBody>
                    <a:bodyPr lIns="62640" rIns="626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00 – 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uza za kav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6120">
                <a:tc>
                  <a:txBody>
                    <a:bodyPr lIns="62640" rIns="626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30 – 1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aktična vježba – analiza konkretne studije slučaja: definiranje relevantnosti projekta na temelju pitanja u Projektnom sažetk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ratki pregled analitičkih alata koji se mogu koristiti pri definiranju relevantnost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62640" rIns="626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30 - 13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uza za ruča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62640" rIns="626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.30 - 1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ktna logika – ciljevi, rezultati, aktiv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aktična vježba: izrada projektne logi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480">
                <a:tc>
                  <a:txBody>
                    <a:bodyPr lIns="62640" rIns="626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.30 - 1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tanka za kav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62640" rIns="626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.00 - 17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aktična vježba: izrada projektne logike – 2. 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itanja i odgov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valuacija radion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oditelj/ica radionic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njski/a stručnjak/inj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9d9fa2"/>
                      </a:solidFill>
                    </a:lnT>
                    <a:lnB w="9360">
                      <a:solidFill>
                        <a:srgbClr val="9d9fa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0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ocedura prijave na natj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1. kora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Otvaranj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i administrativna provjera i ocjenjivanje sažetka projek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vjerit će se poštivanje roka za do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vjerit će se sadržava li prijava sve navedeno u Kontrolnoj lis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djelja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2, Dio A Prijavnog obrasc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– tzv. Administrativna provj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cjenjivanje koncepta projekta koji je prošao admin. provjeru; obuhvaća relevantnost i način na koji je oblikovan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2. korak: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 Ocjenjivanje kompletnog projektnog prijed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vjerit će se poštivanje roka za do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vjerit će se sadržava li prijava sve navedeno u Kontrolnoj lis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djelja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6, Dio B Prijavnog obrasc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– tzv. Administrativna provj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cjenjivanje kvalitete projektnog prijedloga (učinkovitosti, izvedivosti i održivosti), proračuna i kapaciteta prijavitelja i partnera (financijski i operativ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ocedura prijave na natj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3. korak: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 Provjera prihvatljivosti prijavitelja i partn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zvršava se za prijavitelje koji su okvirno odabrani u prethodnom koraku u skladu s dobivenim bodovima i raspoloživim financijskim sredst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zjava prijavitelj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djelja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7, D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ijavnog obrasc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uspoređuje se s popratnim dokumentima koje je prijavitel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ostavio na zahtjev Ugovornog tij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ihvatljivost prijavitelj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partner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 projekta bit će provjerena prema kriterijima objavljenima u pozivu na natječaj (poglavlj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1.1, 2.1.2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2.1.3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Uputa za prijavitel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ocedura prijave na natj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Dostava statusne dokumentacije od strane okvirno odabranih projekata (provjera prihvatljivosti prijavitelja i partne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Ugovorno tijelo će pismeno obavijestiti prijavitelje koji su okvirno odabrani („provisionally selected”) ili se nalaze na rezervnoj listi i zatražiti od njih da dostave sljedeću statusnu dokumentacij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Statut ili odgovarajući akt ili presliku zakona kojim je osnovana organizzacija prijavitelja (prijavitelja i partne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esliku rezultata poslovanja prijavitelja za posljednju financijsku godinu (račun dobiti/gubitka i bilancu poslovan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Ostale pravne i financijske podatke (naziv, sjedište, matični broj, OIB, ime poslovne banke, broj žiro računa i sl.) prijavitel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ako se prijaviti na natječaj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ijave moraju biti popunjene na </a:t>
            </a: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engleskom jezik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ijave pisane rukom neće biti prihvaće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ojašnjenja će se tražiti jedino ukoliko su informacije nejasne te na taj način sprječavaju Ugovorno tijelo da obavi objektivnu procjen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100" spc="-1" strike="noStrike" u="sng">
                <a:solidFill>
                  <a:srgbClr val="000000"/>
                </a:solidFill>
                <a:uFillTx/>
                <a:latin typeface="Tahoma"/>
              </a:rPr>
              <a:t>Napomena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: ocjenjivat će se samo sažetak projekta (1. korak) i kasnije (2. korak) potpuni projektni prijedlog i dodaci (proračun i logička matric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Nije potrebno slati druge dodatke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ni u kojem koraku proced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Svaka pogreška ili veće odstupanje u točkama navedenim u uputama projektnog sažetka ili bilo koja veća nedosljednost u prijavnom obrascu (npr. iznosi navedeni u proračunu se ne slažu s onima navedenima u prijavnom obrascu) mogu dovesti do odbijanja prija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Gdje i kako slati Sažetak projek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u 1. koraku treba slati samo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 Sažetak projekta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(Concept Note)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zajedno s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 kontrolnom listom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(dio A, odjeljak 2 prijavnog obrasca) i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Izjavom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prijav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Maksimalni broj stranica Sažetka projekta – 5 (napomena: ne brisati originalni tekst obrasca) + prva (naslovnica) i druga (podaci) stranica obra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treba pripremi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original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kopij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4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lič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svaki uvezan poseb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sažetak projekta treba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dostaviti i u elektronskom oblik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-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koji mora sadržavati dokument istovjetan priloženoj papirnatoj verz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a vanjskoj omotnici mora biti naznačena referenca (referentni broj) i naziv poziva na dostavu projektnih prijedlog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zajedno s punim nazivom i adresom prijavitelja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 naznakom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ot to be opened before t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ing session"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"Ne otvarati prije sastank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dbor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ijave se podnose ASOO-u (adrese su navedene na 15. str. Uputa za prijavitelje) u zapečaćenoj omotnici, preporučenom poštom, kurirskom dostavom ili osobno (potpisana potvrda s datumom će biti uručena osobi koja je dostavila prijav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ijave poslane drugim putem (faksom ili elektronskom poštom) ili dostavljene na drugu adresu bit će automatski odbij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ijavitelji moraju potvrditi da su njihove prijave potpune koristeći Kontrolnu listu (Odjeljak 2, Dio A Prijavnog obrasc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epotpune prijave mogu biti odbij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ijava u PADOR-u nije obvez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971640" y="404640"/>
            <a:ext cx="763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Gdje i kako slati Sažetak projek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23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7. studeni 2011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što se dokazuje datumom slanja, pečatom poštanskog ureda, ili potpisanom potvr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slučaju osobne dostave rok je 7.11.2011.g. u 15:00 sati po lokalnom vremenu što dokazuje datum potpisivanja potvrde o primi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vaka prijava podnesena nakon tog roka bit će odbi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bog administrativnih razloga, Ugovorno tijelo može odbiti bilo koju prijavu zaprimljenu nakon datuma stupanja na snagu odobrenja prvog koraka evaluaci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valuacije projektnog sažetk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71640" y="404640"/>
            <a:ext cx="763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Rok za slanje Sažetka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Dodatne inform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itanja se mogu slati elektroničkom poštom ne kasnije od 21 dan prije roka za podnošenje Sažetaka projekta na sljedeću e-mail adresu: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ef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so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h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govorno tijelo nema obavezu dati daljnja objašnjenja nakon navedenog ro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govori će biti objavljeni najkasnije 11 dana prije roka za dostavu projektnih prijedloga/sažetaka projek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va pitanja i odgovori bit će objavljen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isključivo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na sljedećim web-stranic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s://webgate.ec.europa.eu/europeaid/online-services/index.cfm?do=publi.welcom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hr/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Dodatne inform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57200" y="1268280"/>
            <a:ext cx="8362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javitelji čiji projekti budu najbolje ocijenjeni bit će pozvani da dostave potpuni projektni prijedlog (rang-lista će se formirati do dvostrukog iznosa sredstava na raspolaganju, tj. do 8.800.000 eu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stali prijavitelji će također dobiti obavijest o ishodu na 1. kor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k za podnošenje potpunog projektnog prijedloga bit će minimalno 45 d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dviđeni (provizorni) datum do kojega će stići rezultati 1. koraka ocjenjivanja sažetaka projekata je 14.02.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dviđeni (provizorni) datum do kojega će stići rezultati 2. koraka ocjenjivanja potpunog projektnog prijedloga je 9.10.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dviđeni (provizorni) datum potpisa ugovora o bespovrtanim sredstvima je 10.10.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57200" y="4046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rocjena i odabir pri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57200" y="1268280"/>
            <a:ext cx="8362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09480" y="1420920"/>
            <a:ext cx="8363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blic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za bodov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žetka projekta i Pune prijave, zajedno s pripadajućim kriterijima, se nalaze  u sekciji 2.3. Uputa za prijavite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 tablici za bodovanje Sažetka projekta obratiti pažnju na pitanje za procjenu 1.2. , napomenu oznaćenu s *** i pripadajuću fusnotu koje se odnose na dodatna pojašnjenja glede prioritetnih župa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3776760" y="97920"/>
            <a:ext cx="159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ablica za bodova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iljevi radio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nje svijesti o ciljevima i prioritetima Operativnog programa razvoja ljudskih potenc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nje razine informiranosti i znanja o pozivu za dodjelu bespovretnih sredstava navedenog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tjecanje znanja i vještina o procesu razvoja projektnih prijedloga relevantnih za otvoreni poz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svajanje praktičnih vještina za razvoj koncepta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pis dodat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kumenti koje je potrebno popun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PRI PRIJAVI PROJEKTA – KORA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DATAK A: SAŽETAK PROJEKTA (word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PRI PRIJAVI PROJEKTA – KORA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DATAK A: PRIJAVNI OBRAZAC (word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DATAK B: PRORAČUN (excel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DATAK C: LOGIČKA MATRICA (excel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ZA KORAK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DATAK D: PODACI O PRAVNOJ OSOBI (excel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DATAK E: FINANCIJSKI IDENTIFIKACIJSKI OBRAZ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itan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Raspored radi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26920" y="1341360"/>
          <a:ext cx="7490160" cy="4675320"/>
        </p:xfrm>
        <a:graphic>
          <a:graphicData uri="http://schemas.openxmlformats.org/drawingml/2006/table">
            <a:tbl>
              <a:tblPr/>
              <a:tblGrid>
                <a:gridCol w="1873440"/>
                <a:gridCol w="1871640"/>
                <a:gridCol w="1871640"/>
                <a:gridCol w="1873440"/>
              </a:tblGrid>
              <a:tr h="9795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”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egracija skupina u nepovoljnom položaju u redoviti obrazovni sustav”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˝Daljnji razvoj i provedba Hrvatskog kvalifikacijskog okvira˝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3. – 04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Šibeni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3. – 04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gre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5. – 06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sa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6. – 07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sije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62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 – 11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ukov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 – 11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ijek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 – 14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lavonski Bro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 – 13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l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 – 18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akove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 – 18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li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– 2</a:t>
                      </a: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li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 – 21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ažd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62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 – 25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gre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 – 25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d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– 2</a:t>
                      </a: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l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 – 27.10.201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gre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redstavljanje tehničke pomoć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6327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Naziv projekta tehničke pomoći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9512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  <a:tab algn="l" pos="4295880"/>
              </a:tabLst>
            </a:pPr>
            <a:r>
              <a:rPr b="0" i="1" lang="hr-HR" sz="21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i="1" lang="hr-HR" sz="2100" spc="-1" strike="noStrike">
                <a:solidFill>
                  <a:srgbClr val="000000"/>
                </a:solidFill>
                <a:latin typeface="Tahoma"/>
              </a:rPr>
              <a:t>Support to the regional and local level stakeholders with the Grant Scheme project preparation in the area of education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Cilj tehničke pomoć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  <a:tab algn="l" pos="429588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užiti podršku u pripremi što većeg broja kvalitetnih projektnih prijedloga u području obrazovanja prihvatljivih za natječaje programa IPA potencijalnim priojaviteljima s lokalne i regionalne razin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Tehničku pomoć provodi </a:t>
            </a:r>
            <a:r>
              <a:rPr b="0" i="1" lang="hr-HR" sz="2100" spc="-1" strike="noStrike">
                <a:solidFill>
                  <a:srgbClr val="000000"/>
                </a:solidFill>
                <a:latin typeface="Tahoma"/>
              </a:rPr>
              <a:t>ACE International Consultants S.L.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(Italija) (voditelj provedbenog konzorcija) i suradnji s </a:t>
            </a:r>
            <a:r>
              <a:rPr b="0" i="1" lang="hr-HR" sz="2100" spc="-1" strike="noStrike">
                <a:solidFill>
                  <a:srgbClr val="000000"/>
                </a:solidFill>
                <a:latin typeface="Tahoma"/>
              </a:rPr>
              <a:t>WYG Internnational Ltd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. (provedebeni partn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Članovi tima tehničke pomoći: Mirela Brechelmacher, Nenad Vakanja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redstavljanje sudionika radio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nje predstavnika korisničke institucije (MZO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nje predstavnika provedbenog tijela (AS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nje polaznika eduk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  <a:tab algn="l" pos="4295880"/>
                <a:tab algn="l" pos="4491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me i prez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  <a:tab algn="l" pos="4295880"/>
                <a:tab algn="l" pos="4491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rganizacija iz koje dolaz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  <a:tab algn="l" pos="4295880"/>
                <a:tab algn="l" pos="4491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dznanje i iskustvo u EU projek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  <a:tab algn="l" pos="4295880"/>
                <a:tab algn="l" pos="4491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skustvo u području poziva na natječ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  <a:tab algn="l" pos="4295880"/>
                <a:tab algn="l" pos="4491000"/>
                <a:tab algn="l" pos="4686480"/>
                <a:tab algn="l" pos="488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Integracija skupina u nepovoljnom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 položaju u redoviti obrazovni susta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  <a:tab algn="l" pos="4295880"/>
                <a:tab algn="l" pos="4491000"/>
                <a:tab algn="l" pos="4686480"/>
                <a:tab algn="l" pos="488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Daljnji razvoj i provedba Hrvatskog kvalifikacijskog okv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  <a:tab algn="l" pos="4295880"/>
                <a:tab algn="l" pos="4491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čekivanja od radio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Daljnji razvoj i provedba Hrvatskog kvalifikacijskog okvira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2781360"/>
            <a:ext cx="741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Opće informacije o natječaju iz djelokruga resornog ministar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predstavnik/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Ministarstva znanosti, obrazovanja i šp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  <a:tab algn="l" pos="4100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Daljnji razvoj i provedba Hrvatskog kvalifikacijskog okvira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2781360"/>
            <a:ext cx="741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Ciljevi i prioriteti natječaja za dodjelu bespovratnih sred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predstavnik/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Agencije za strukovno obrazova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i obrazovanje odraslih - DEF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1:19:23Z</dcterms:created>
  <dc:creator>mtretinjak</dc:creator>
  <dc:description/>
  <dc:language>en-US</dc:language>
  <cp:lastModifiedBy>Name</cp:lastModifiedBy>
  <dcterms:modified xsi:type="dcterms:W3CDTF">2011-09-30T10:25:56Z</dcterms:modified>
  <cp:revision>317</cp:revision>
  <dc:subject/>
  <dc:title>Slide 1</dc:title>
</cp:coreProperties>
</file>