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notesMasterIdLst>
    <p:notesMasterId r:id="rId57"/>
  </p:notesMasterIdLst>
  <p:sldIdLst>
    <p:sldId id="256" r:id="rId58"/>
    <p:sldId id="257" r:id="rId59"/>
    <p:sldId id="258" r:id="rId60"/>
    <p:sldId id="259" r:id="rId61"/>
    <p:sldId id="260" r:id="rId62"/>
    <p:sldId id="261" r:id="rId63"/>
    <p:sldId id="262" r:id="rId64"/>
    <p:sldId id="263" r:id="rId65"/>
    <p:sldId id="264" r:id="rId66"/>
    <p:sldId id="265" r:id="rId67"/>
    <p:sldId id="266" r:id="rId68"/>
    <p:sldId id="267" r:id="rId69"/>
    <p:sldId id="268" r:id="rId70"/>
    <p:sldId id="269" r:id="rId71"/>
    <p:sldId id="270" r:id="rId72"/>
    <p:sldId id="271" r:id="rId7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notesMaster" Target="notesMasters/notesMaster1.xml"/><Relationship Id="rId58" Type="http://schemas.openxmlformats.org/officeDocument/2006/relationships/slide" Target="slides/slide1.xml"/><Relationship Id="rId59" Type="http://schemas.openxmlformats.org/officeDocument/2006/relationships/slide" Target="slides/slide2.xml"/><Relationship Id="rId60" Type="http://schemas.openxmlformats.org/officeDocument/2006/relationships/slide" Target="slides/slide3.xml"/><Relationship Id="rId61" Type="http://schemas.openxmlformats.org/officeDocument/2006/relationships/slide" Target="slides/slide4.xml"/><Relationship Id="rId62" Type="http://schemas.openxmlformats.org/officeDocument/2006/relationships/slide" Target="slides/slide5.xml"/><Relationship Id="rId63" Type="http://schemas.openxmlformats.org/officeDocument/2006/relationships/slide" Target="slides/slide6.xml"/><Relationship Id="rId64" Type="http://schemas.openxmlformats.org/officeDocument/2006/relationships/slide" Target="slides/slide7.xml"/><Relationship Id="rId65" Type="http://schemas.openxmlformats.org/officeDocument/2006/relationships/slide" Target="slides/slide8.xml"/><Relationship Id="rId66" Type="http://schemas.openxmlformats.org/officeDocument/2006/relationships/slide" Target="slides/slide9.xml"/><Relationship Id="rId67" Type="http://schemas.openxmlformats.org/officeDocument/2006/relationships/slide" Target="slides/slide10.xml"/><Relationship Id="rId68" Type="http://schemas.openxmlformats.org/officeDocument/2006/relationships/slide" Target="slides/slide11.xml"/><Relationship Id="rId69" Type="http://schemas.openxmlformats.org/officeDocument/2006/relationships/slide" Target="slides/slide12.xml"/><Relationship Id="rId70" Type="http://schemas.openxmlformats.org/officeDocument/2006/relationships/slide" Target="slides/slide13.xml"/><Relationship Id="rId71" Type="http://schemas.openxmlformats.org/officeDocument/2006/relationships/slide" Target="slides/slide14.xml"/><Relationship Id="rId72" Type="http://schemas.openxmlformats.org/officeDocument/2006/relationships/slide" Target="slides/slide15.xml"/><Relationship Id="rId73" Type="http://schemas.openxmlformats.org/officeDocument/2006/relationships/slide" Target="slides/slide16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dt" idx="5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 type="ftr" idx="5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 type="sldNum" idx="5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E0C-341E-41DF-9646-8A86063B314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3C9-8DF4-436B-8812-10A2DDF1F1D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9E23-D31F-4CA6-B043-D5DA02F5A61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vaki projekt unutar LOT-a 2 mora imati barem jednu od ovih aktivnost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198F-148F-4041-AA7D-DA7FC3B2568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* Ova aktivnost dostupna je samo za sveučiliš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Trening nastavnog osoblja u 3 područja: pedagoško-psihološko-didaktičko-metodičko obrazovanje; razvoj i primjena jasnih kriterija i procedura za ocjenivanje/vrednovanje; pravilna primjena ECTS-a prilikom stvaranja studijskih programa i kurik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Jedino sveučilište može bit i prijavitelj projekta koji uključuje aktivnost 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Razvoj novih ili prilagodba postojećih studijskih programa (na engleskom jeziku) temeljenih na pravilnoj primjeni ishoda učenja, ECTS-a i studentskog optereće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25A0-980D-4781-BA3A-9C62C878861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F2D-8AF4-41E4-B894-DE4F9BA7600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57D3-8458-4B20-BEF8-4CE0B1276D7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064F-EF2B-4A6F-9A5D-61A5C75C26E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6FEC-8E8A-4C59-BEC1-16B46BBF762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DC7E-AB2E-428C-89A4-5488032D0E7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E738-535D-4251-A767-AF6868BFB5B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Izrada HKO započela je ka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Cilj ovog natječaja za podnošenje projektnih prijedloga  je pružiti potporu provedbi Hrvatskog kvalifikacijskog  okvi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DB0-2C58-4457-AA85-0D2D97E2E84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DEA-6F92-4AFE-B67F-B44F810ED03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vim lotovima kad je prijavitelj ili partner  sastavnica sveučilišta, zajedno s „concept note” mora priložiti  pismo potpore projektu od sveučilišta. U lotu 2 to pismo potpore mora sadržavati i izjavu sveučilišta da je projekt u skladu sa strateškim razvojnim planovima  i inicijativama sveučiliš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isoka učilišta (sveučilišta, sastavnice sveučilišta, veleučilišta, visoke škol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6484-BD18-4FE9-8755-06AD19F32A7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c00000"/>
                </a:solidFill>
                <a:latin typeface="Calibri"/>
              </a:rPr>
              <a:t>Specifični uvjeti partnerstva za LOT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lučaju kada je prijavitelj visoko učilište koje provodi obrazovanje za nastavnike ili institut za istraživanje u području obrazovanja i usavršavanja, tada u projektu moraju biti uključena najmanje 2 partnera iz sljedećih kategorija institucija: predškolske ustanove, ustanove općeg  obrazovanja, tijel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kalne uprave i regionalne samouprave nadležna za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7E1-6A49-4CF4-A83D-8424A691DD8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lučaju kada je prijavitelj visoko učilište koje provodi obrazovanje za nastavnike ili istraživački instit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406-DEED-4C63-8B37-B3A59EF09E8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C3EE-3D63-421F-9C0E-653903C2D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0ABB-B07B-4005-8367-95287BE7DD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A2ED-F1FD-4E65-98F0-020D18AD65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83DC-AD82-4455-9A37-B04A636A9F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ABB0-4F2E-4602-9144-EFDC5ECF137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09C7-2AFC-4EB1-8398-55C8D89E5B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C0D3-F6DA-441E-8BC8-719BBEA90D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95C8-9944-4C4F-92FF-F49BE6CCFF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4875-7B04-4DC2-8DED-21961AA1E4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4E9A-48D0-4DBE-BB4B-ABCAD188EC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AEA0-909F-4659-B1E0-90D17EEE4D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9D88F-71A1-423A-9B8B-B60FD40EB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E8DE-6DFE-46C8-9553-54B542697C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CD925-C9A9-41B1-8D11-4493DBEFD8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C26AE-8D05-426A-8572-68265F19DB7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3D9C8-850A-4AC3-9E36-D02944611A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2A488-39E9-4AA7-8A3C-52BD2E67BB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32C6B-6754-4CD8-8E9F-2A0BFDAC3E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7AA3EC-44A4-4172-912C-30E6887798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3F75C-F849-41AC-ACC0-8893B9B1B6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B40D6-4773-4374-8680-F6F2A72F99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A959A-8E31-4A38-8FF4-6920FB50A7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F694F-EDF3-428D-9F99-863414782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9859-9BC4-4280-A9DF-2A2EE0B153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BEB28-5B26-4F0F-8F72-E003680055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0151F-8812-47FC-AAD8-C214827B92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7E4DF-5C16-4DB1-9F25-8A92993118C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E1244-90BD-4283-A223-12DB2F79FF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BE370-355D-48BE-B51F-F2BFF87D19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3767F-184B-403D-9CBF-93AE920DB6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CA97B-B712-456B-AAD6-B50A7DA545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1316B-8F80-4868-BF8B-1D30A332F4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1B3FA-C1F5-44E3-907E-A180F192C4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19152-CF5F-49FF-9A94-B37BDF04D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5489-7D73-450E-AAD1-E49B805DA93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9BCEC-A574-47C5-B8DE-1064ADDF6E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73394-5760-47C4-9726-5E188D705C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0ACC3-65FD-4831-BEC7-AD1ADDFABA6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311F-F825-42E3-BF22-F5AC7E8008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8396-58A0-42EB-9DC9-AAEB903D8D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920D-1BAB-4F6D-BD8B-77F7B9BBB1A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B364-BF9F-4CDF-AB32-406516B5AE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97D1-84C9-4CCE-89A0-8A86E19E3A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E873-F9F0-47DC-A49D-5A2F62B0850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7729-1734-4EC2-9E00-4653A9738E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7855-3F2C-46B7-B0C3-801BAB76955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2ED6-79C8-481D-AFFE-844ACB4A696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4EA78-01EE-4EEC-AB7D-A675A786B5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2869-3D92-4115-8AAC-D5B80CB62B7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3F21-747E-4CFC-8F35-7C67CA928D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4BFE-2B8B-49F5-96AE-AA6DF2B49FE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2B710-C6B5-49D9-A0FA-D4937441DA3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CD4BC-6F4C-4DAE-B8FE-DE4A71BD8AD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8511C-923A-4DF4-B75D-422D95C9D4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53438-9DC9-4A4B-A708-9ACD123580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F2109A-2384-4EC8-9B87-40FF82770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EF07-369C-414E-A45C-0637FAADFF3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49075-21AC-4290-9DFB-5182A80CBC3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3A697-DA33-4821-9608-AA99C97DF17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7F0B0-8D77-4EEA-A471-E6A476B4EA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43860-DEF6-40AB-A2EC-A888ED0B02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98F68-1158-416D-ACD6-FE44B5CC92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ECAE5-9194-4915-AAAD-6901F953F6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A4B38-EA1E-4939-B434-BB4BC0578B4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AD846-8A21-469F-81AA-5AE14CFC258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C69A4-8765-43A8-AF51-FC31C768CC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20351-C694-44E6-9060-27E949F5D4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B107-F117-4C7C-9EA7-560AC469D3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D0A55-2067-4761-92CE-EDC4D8A894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07682-5F8E-4EA8-9EEE-6CAD77134C3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F11EC-33C6-4EFC-ABE3-31C17FD9D72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ABE91-B1EB-401C-BC92-6CE59197C3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5B721-7993-4034-9182-A60C35D97C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4B7D6-0CD7-4DDC-B9C6-0EC310830B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84238-3D4F-44EE-9CC5-56DB11045B2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99D58-A6C5-4935-B22C-35681F6212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27BA1-7863-4A88-A3E0-8E14DBE516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66B9-4963-47A8-9601-A294455AE9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937D-EA16-4EA5-A0E8-C371B5517A4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C8C7-E013-4475-B837-99AEDDBD4F7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1799-1C8F-409A-BF2A-E52AE42FCA2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D2C4-C2D0-4C18-A08C-C836E869ADB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A23B-F0AC-4B54-951B-2E0DC1B882F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6787-6A43-45FF-A859-D1B7D13FF29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58149-28A1-452D-A81F-2F0F12338CB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7FA4-CC0C-4573-AD6F-F1D04DB0415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126F-DA3E-4059-98BB-DEA0BC396C0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AC67-97FD-4E9C-A2BF-F7DE371CD59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BBAE-E371-4C56-8979-ACF811A94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78B2-6BED-45C2-93F7-C4D7CCEDAA5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24841-0888-4408-B46C-BE0655422A4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9063D-1BEB-4CEC-BD9F-9596A108100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308B9-BDCA-4427-96FB-EF3E74C4B2E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6D147-F552-4ED6-B589-B8353935E00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16682-3695-4CD5-B75A-04165F439A7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89421-59F7-4994-B11F-798209087F4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556C8-707C-4127-9EA1-3CBF14EF2DB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8E97D-A3C4-40D4-BF67-CEFBF07F768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9D5D47-FA24-4E9A-968F-67B4319456B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2CB2C1-A924-43D4-A1C5-65D2EFF047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5255-AED3-4BB9-A505-06FDA577515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D27B1-8076-4A47-8948-8A2EF0472EB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7AE30-2327-4AAA-8165-2E96510209E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76E287-7280-419C-871B-0948B06607D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434DB-4B9A-43BD-A24C-17AA642A91C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81076-D0DE-4DF5-B630-0B042CEB29C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04A69-2CB7-4693-87CE-D1920847739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A9AB6-AF1E-4BFC-838E-FD98006905C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84D97-354D-408D-A436-375FC8CF67D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B8B27-B640-4BC7-AD47-FB607715B02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731F0-CAF3-4CA8-92AB-7FE6B940F8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AB41-F4BF-4E8E-958E-E38EC5CCD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C0C0-0EBD-4C50-B33F-DEB041DEADC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D7061-6993-4A4D-BD49-5AACE4F7617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FCAB2-53F2-4682-B393-3F849F1BEC7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9F129-44E9-479C-8167-9E68B316E89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5FE9C-2A84-4ECF-A47D-A3F04D61416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1F79A-95DD-4DCF-9E5B-969B0B18FA6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9D4D4-C10F-4647-93FD-383816EDEB5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EC880-1DF3-47AB-8639-F55578C804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38BA-C503-412F-9254-FC8DC8709C1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8265-1AFF-4232-B357-9A776C64F89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95D3-6152-4F66-8F61-C798B4A91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77F6-EEFD-4FD2-92EE-02090F2A9C5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EABC7-6ADC-42CB-AFCE-1539C4C64E4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EBBD-B8DD-4308-8566-24D5C964191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B2ABF-DEDF-413A-95AF-387BDA469C7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69F3-58FC-4BFE-87D5-B64A35035F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5EBC-F88C-4304-9DCE-36AC017C6CA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627F-59A7-4530-B446-6DA6FE8B6F9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E429-414A-4F66-B014-1F57F445276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006D60-D163-432D-A041-11455EF37BE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B33359-BCEF-444B-8142-AEE9FEEBF26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8378B-2242-4AD9-B0F8-CA7165D9B9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7937-1D32-4CAC-99C0-B2F5F0E0C70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E352B-FB9F-41CE-A324-0F5806D6C77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0D4BCF-382E-479A-BF04-FAB7D36415D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7AD6C-113B-41E1-83F9-09D33F5E09E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B5C8F-46B7-4844-82D7-5883D39124F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962A0-B93B-47AB-8CFB-3A658A73534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197B8-9935-49CC-9760-403D5C15F9C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A382B-E762-4C98-B94B-887939752B9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CACF6-6C53-4249-8E45-B39682987DD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AAEAD-D09F-4114-8778-936A72E16EF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A2BF9-57BC-4808-9D3C-C5EEE9D90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BC79-DDCF-4E28-9F7F-3471A069AAC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FEE37-E668-4304-A572-78A076C5DD6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D7BA7-D715-477B-AD0A-2594CA2D3FD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D9E99-9F76-4EE9-84C2-E8A4C588624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FEC23-6C2A-49B9-83AB-9CA1913E940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7C036-ADBB-49E0-9AB9-90586B8C89E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AC7AB-6898-4300-A2C7-E52F6C2DF8E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79C18-B1C5-4FE6-B1F5-88F7E2E6D3C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D9213-54F9-4E7A-A4FF-1C07ADF2EC3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1F53B-527D-4E9A-ACAB-1B036B16A4A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0BEB8-CFBE-4236-BEB6-3699DE4DED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7ADE-58D9-4F04-BF8E-E0BB5C9581C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2A5CD-899C-4639-B441-FBA9ADBA9B8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3CC52-92DB-49E1-ABE9-FD52413F368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DEC5-9B90-4CE1-928A-3CC1EBABCF8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7649-E200-425F-89AE-9144E2ED6F9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98D3E-53CA-4DF1-B46D-15509EB53A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4C689-9EF1-4D22-B55D-0477ADABE33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CC194-613C-4D6C-B6AB-36840C6CC8B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1032-6D35-4C61-AB0C-F77DFFD0F08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D12A2-123A-4A63-9565-38774D4669D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27ED-7E1B-4B5A-8F0C-041B82CC63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3C6-812A-421E-857A-6FC53FA5DF1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D551-5C9C-4BDB-8AFF-0814B352E29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D1D5-351E-41A2-BEE8-A9E28A7F33C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D8295-DAE9-4216-9B8F-DB2C0DB4439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4C45B8-A2CA-423A-AC47-078900AD26B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0E4E2-C4C0-4BF0-BFC2-212AD740513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BCF40-9E47-48D1-B91E-71FA5FC48C3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BC5DF9-9084-4796-8D81-DEA22C72567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221C26-B37B-4755-B4ED-610B6E937C5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8DC65D-D1BC-46B4-A570-B0FCE2E4756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30A4D7-22EE-4522-B913-DF4500F73F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542-F93D-402E-A269-3993FFC54D5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8823E1-7326-4878-8CCD-268D47276A9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669CA-6281-4322-8172-AB377F86BF9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07D1D-2A37-4A10-BE1F-A20D8D3930A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8316A9-83A4-4E8F-AEA1-1114CCF0615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D3B0C-738A-4B6C-A5F1-0CB11F71F19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BF2E6-8C1D-454E-8ED4-C62F5B33794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D2D70-2520-4457-B63C-1F8D1FB8B43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A8C92-CB8D-4F2A-9A4C-E136E8DC01D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37B9E-331E-4F8C-80ED-E275A9955B6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60514-8966-4230-86C8-AFD588896E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9C3-4844-4B36-AB3E-47D1EA2E6E2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F6711E-95A1-4C52-9770-E1B9166041C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2D76A8-9607-441D-B9FA-7CAC8390AAD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05CDF-AD23-4CDB-9B2A-0162664CD5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BC979-C159-4EFA-A5D0-B3E952E4A80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F6E1C4-17AB-4E95-B5DB-318DA9550F0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24CE7F-07F5-4484-A30F-91ABC7B58A4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FFE60B-4A40-4898-9492-4DAD62486FB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D74C-5C86-4E7C-9740-208ABA1AFC2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616B-E901-483E-84B7-E6D04F9A391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B225-C631-4290-8104-69196B322F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E89-2C3F-4B79-ACC1-F3AB3A7F101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9263-9BF9-4E41-A0F6-EDDC52485C0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3101-1B29-4E8D-859A-A3D00E0847D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C5393-A8C8-4F3F-89B8-51B4522B42D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DA72-FAD0-4AA2-B231-ADCFC953A90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FDAD1-F2B9-4353-9155-1B91E66CDD3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FF203-6959-4642-B6CF-913C2E69267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1628-9BC4-44A5-9E2C-635C10DC6CA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43D8B-A917-4471-8340-736876CC737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4929-E75F-44CF-BB79-6FE64B27433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A36EB-F5CE-4791-8F2F-FDC0B4D991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83D-E5D5-4A7E-B8FD-4D886C0FE86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8B01C-1B7B-4BC8-A4BA-08C5863FD37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B2C75-C846-4129-83B0-02D0138CD13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662EF-F936-45AA-86E5-F662A896C9B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C2B38-3A47-463E-BEBC-A4B9665AF03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E4C05-4D8D-4BEC-A289-464A4C15050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FB22C-C6BA-45CE-8522-374CB41078E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1EB1B-B682-4F64-A238-438F77CAB3F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B431B-62E6-435E-83EE-2085876335A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859F6-CA8F-4901-8024-1A790FE5B07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3756C-F7F6-43F6-ABD4-E579E1105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37A0-D914-4919-B5CE-94A175B867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641-A96E-4039-978C-A8B05E87BAA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84582-8EE9-4CED-8080-F4F7D132AFD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4FDEFA-0230-4AFB-96D5-9A629275341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C8E48-3618-4219-BDC3-AA66930C4BA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F4E8B7-2AEA-4F71-BA44-D58EFA8EB4B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B766A-9A75-4B25-86BB-172468F22A0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9B39AB-DCF5-46D4-B8B0-82D05BBCC28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2424E-5B61-43BC-A7E8-64749056C87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C14A27-D1C2-4915-AA3A-D7B719857C0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D3A5D-8D97-4351-8FF1-5C5FB5009D4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222CE-16D2-40F0-8358-4F228C50A8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624-2F87-4A10-81F7-25F812DC31F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A1EE55-648C-4AEA-89C2-5CFB68E71B3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E6F4C-C39D-42CC-AA5D-7505F0847D0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47095-4F5B-4D94-A755-0FC35930473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F7C69-D7CD-4249-85B1-334CE5E80DB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9EEB-B7A9-4328-A47A-C1896D0EB09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30F13-376D-464B-9E7C-AB5D50126A3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F171-0A97-4B5A-BA09-CE08300A8F5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6E96F-D126-4B9B-8EE9-059A93C8E60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F925B-E242-409F-86C4-9E1054F2855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9E7F2-AC00-405D-905D-C88A493418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93B-2C36-46EB-A763-86FB5FBE0CE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80725-3E37-476E-A3FD-A088EE1B340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0D0D4-4311-429C-9105-AE99FDF1EC9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BDF45-F1CB-4477-901F-41588F220A3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89CCA-78A2-4E64-93CF-43074B5072C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648F-684D-477B-8D08-874DDD7DD92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41B8E-03C2-42C9-9325-1DB6F9C3F83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101FA-B8CC-46EF-8E66-4AB47EEF1B2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A7CBA-C0C7-45C3-B892-79219537FD2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81126-DD1E-4AD3-A95A-DA70B28DC95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ABD51-9DCE-467B-B69E-3A3C4C51EF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771-F32E-48F7-9F2E-BEFA690F690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D53D7-0D6C-4446-868A-B6B33D2C7C3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C02D1-A985-4B60-8CBC-6BE55BF19A5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8BB92-5A89-4071-84E0-D0004F8C12C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6AD6C-729D-4A8C-8FB0-99AD0083BE9D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FFAEB-DDDD-409A-81A3-B44330949D1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A31B0-71A9-4808-91A4-F999C7A51F2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415B6-6FF1-4606-9101-B06E47C9281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2588B4-C782-4606-9EEF-EC86D2968CF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0D37C-0AAB-4452-8CCA-B27F5ED32E0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7525E7-332A-4BD1-86C5-8D24560166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9BE-5579-41F1-AECC-694B5262626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32FA31-5C35-42ED-9450-CD0DFD2C90F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DD7D96-FD1C-46C3-8DED-A5792242188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B6A98-C10D-490D-8F9E-4271E1E6159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7DCD3-E71D-4CA9-B803-C930E4C227A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3BAB45-CB9A-4DC8-B827-745C53A94D36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B9A84-2021-499B-8B31-C4712272F1E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EAE993-FCED-4775-B197-D7C4D04AB0C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B92F04-063E-4BD3-9975-FD05FC7F396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4E31DC-0245-4385-A258-5928F4F9189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F105-4529-4407-9CBC-5429192789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1F4-6B2A-4AC3-B1F4-8B29924982C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E3CA2-AAA6-4376-8402-B1D86080CD5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9CF12-3E7A-4460-AD99-2939459BB32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4FF32-7239-42D7-BABB-54CD221635D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6D165-5C54-4655-8841-6E95310863F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A6633-E085-4E44-89FF-CE17EB4B1C3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CAEB-F1BE-4965-A89B-D7F1BFB1DE5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797C8-9828-4C8B-BE72-5922BDA7A0A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0A681-54C9-472A-AD96-29D790462B9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60875-5326-4B0C-A6A6-1EF068255FB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0278E-E612-456D-B8AC-A6E45BE0C8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454-06B3-4FDF-9546-6C4696AC6D5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925A-D7B7-4708-8D1E-3D2F158AA4A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D0F14D-997E-419F-92C9-B4FF65EE085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6E7A97-A5AB-41A5-AFBD-88B22B652A8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55CBE-2454-49CC-A95C-435AD49D3A8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3C7AB1-7C4C-4A51-85C5-ED1184D6F8B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B4077F-1288-451F-AD72-567A7089F86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73C11D-0B1E-4A5A-8FD5-8F139F6F149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E440A1-52C6-4882-AD10-745444B7DDC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D6269A-12CE-47C3-84B9-E3207A928B7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EA330D-8AAF-43DE-AE91-A9CD2E0AC3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5AB84-2608-4637-8723-01B65A1F344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CE0B90-3ACD-4432-BA6B-DCE51F069F0F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1C7DB2-B13C-436C-AA61-16F4C0A4B0C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F9069F-77E3-4583-B2BA-2EF3782FC44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174EB0-4696-4274-A015-602F2D4B1AD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5E78D9-CBB2-421D-B330-4D3A33B39BB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250469-9439-40F0-98EC-1A30B3ED383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B7DFE7-83D4-43A2-B51E-2E2D5D31ED2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4AA83D-1C81-4196-B5B3-24FB2F3771C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807E0A-0D2A-4EE6-BC95-B36DF9BF0E4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B39A19-8C6B-42D1-AB41-10A9576761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13301-9FF6-4F44-8E18-0316B1277AB8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45C6D4-5DBF-4A5E-A298-511F2785CF7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31B53D-569B-43CF-8B02-E79C512613A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E50A6-B872-475B-BE85-0FB453C6570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5622FA-96CD-49E4-84E3-FA5981551DF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F93707-8263-4F81-A44C-3A23D62C376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9EDCA-6ECE-40F0-A622-8254D5AC046B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432CD-7F03-48B7-9DA6-658E2D84E76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C319-2017-4B75-85F5-9B28BA7C182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1E4A-F661-4515-8E3D-BE62F4D1C47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98D02-1DC9-448F-B206-6896759CA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0F1D-79A9-43FF-BE3B-F0C32E18612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9AD7-07E0-4937-9810-E7EAB38E8F7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3351-0D54-4AB0-9EFE-A22DA2127B3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69C9C-59AF-41F1-B68A-B09FFCFD0D1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93BA8-A663-44F6-BD8D-25845D5EA1F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339DE-B181-466E-BF37-A80F14AA719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11D15-D35E-4C10-93E9-B83C685F2AC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39BDF-F46A-49E4-BDE2-2465FCF4EBA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5B8F8-EFAB-4599-A693-B4283CB1C9C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F4A3B-568B-4746-AE5C-056721F0989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AC48F-F8E8-4113-99F1-D4E1A51AE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1E55-3A06-477C-ADE0-41F9C1FEE2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F6F2-4D11-4668-8386-9329EB01C2DF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7573A-342F-4F08-9E7D-EAC05999999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60F37-EDC3-4B3F-BDFA-B5BF6A2C701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92ACE-2429-4477-8C75-B476BDB580F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31F05-94B7-480F-8E36-CF9E5CEBCF4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2BE88-B19B-420C-BAF3-3A9C3EE055D2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8460F-8806-478E-937E-683DCBD3100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022B2-87B1-4FF6-9CB7-29CF669CB61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709D1-20FD-4DC5-971C-34615B128DC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7D8A2-46DF-4115-BE2C-976AEF01747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C45C8C-F034-4DCB-9661-43830E8FD2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ABD9B-165A-4740-84F9-9F04CEE5760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A31A43-6083-44D4-A256-7D2ACD26AB8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D22B8D-ED29-4FF6-B1D8-95E88B13F92E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88F1CA-B1C1-4063-B05F-F1AA2C7E2053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790E5A-35D9-46E5-91C8-4707E105122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190385-DCAF-4A60-9242-FB6F09663C9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A844D2-BDED-4D3F-BB88-48E820D91B8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A3C8B3-2FAF-4825-BCDD-6E4C7FFC6FF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369165-B34B-4E43-A88F-87949DBCCF0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200DBD-609A-4D8E-B3A8-1FDD8C98C6C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9EE4C0-802E-4CC5-84EC-1DD1C494BD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09372-4ED7-4DA7-B24A-C7415E8AAB5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F3877C-C8EC-4D5D-93E4-8FBE1B1008A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341B9-A2AC-4707-A2CA-B45CBA62D9E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5D1DB-1CDB-4CEA-B926-DDB3241CA4C5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88247-3D1B-434B-B8C6-B0FE7319CA7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57F5E-5A3D-480C-B269-62BD5EE3256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C788C-B765-45CB-BEB3-264F4F22172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84A71-236D-4343-8706-3716876C628C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9306-B9DC-4435-B539-65903555261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4FAEF-7BE6-4B9A-9B4D-E13CE7C9BADB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40C6F-C96F-487D-8DFF-D765C43515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16BDB-3529-4025-A93E-66AFA848D1E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52E87-972F-4735-B853-E1CCDA04348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85720-8164-4115-A6BE-FA9C547F25C8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59545-9D70-4A3B-B9C3-6FD0C784908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5F4F11-886B-4209-A599-3A143293010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503AAB-D853-469F-89B0-4F115057BFD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1FC05E-DF7B-42C4-B96C-B9AAC3F484E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4779C3-4F97-4D4B-94AD-B3D9E0195C0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466A3D-1C52-4AA6-8D79-54311B4630D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0217F8-3902-4F73-9559-011D371AAE3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1CEBAC-D716-4C01-ACB5-EB72C56540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98658-F3CA-403B-B598-6686F73BD579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57C258-0217-4244-877F-0EE91E3710E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63FFCD-7F70-4F02-89B4-269BB5754D6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631D37-4CA0-41A9-888E-43FFEB45B14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92A4A0-8DAA-4164-8575-EF5EB98FFC4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478B09-46EF-4FB1-9A8A-16B3F88E3CE7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ED361-52D8-4E58-A0E4-6108C18C4A76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B2ACF2-AF5B-4C64-9403-11B6D940DA5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833E9D-65B3-44C9-A0B9-448CC9C8BBD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354AE4-D033-48FD-A777-4FEEE5433850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83370E-914F-415F-B85A-C3B6D29C65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26C6A-6C3B-4ABA-BDCA-549125064C67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A429A-D6CC-46DC-8596-B3482DBA702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25953-3191-4FE4-907B-E754E5A070A6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54720A-2649-4CD9-9066-0CD65629F86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32323D-6140-497E-989C-4E04208DA99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146446-A712-4018-9671-A0457E662C5D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0C108D-5EAB-495B-B0ED-6B76A90445F1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CEED7A-420E-439B-B127-190BA1DEAB4A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A196D-BD27-425F-90BC-CDE57AAD107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6604B-6496-4936-A82B-96B2442C94EC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CC563-888E-4535-9559-51F8B6A0A8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F1F36-0750-4BE4-AF09-2CDA609B36EC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EFD7E-6775-478B-AAE5-061FED214E12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84E55-A5B3-44EE-B969-6F32B78FB32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3C46C-AD6D-4912-BCDC-D2D10882DF2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07ED9-21FE-42BD-9D74-1E1B5F4E4E8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066D9-1E03-44D1-B1A5-796468DC880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B90E8-85A3-44E1-8D7E-1FD95D93C824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FA8ED-1501-47E2-83B3-FA671D3AA56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01F1F-4EC1-4778-929E-0FB72A30D84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ABF1F-8ED2-43C1-AA9F-A43BFBE67E2A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292D89-E0D7-4741-B8E0-7304132F02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9705B-BB50-4034-962B-0263C79581C1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7B8A8E-9FBA-4905-A7BE-1AAF6134FC5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FC98EF-3130-4599-9254-48FA0E8E216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FEF788-CEC3-4017-924F-0BD147E9E6E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D492CE-0C9A-48C7-B56C-ED421B88E37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2FBA63-FA71-49E3-A18A-307919C5E516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0E53DB-2061-40E9-B601-EDA4BC481E5C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DAFE48-9D22-4AE4-898A-5D379E9BF7D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7B5DB9-79AA-4DD4-9C5B-CFDC9F13707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7A778A-1F6B-450D-81C9-2A296418FAD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248F37-E7DF-4F55-BC2A-E716A9AB6B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A24F5-CDEC-4647-8C6D-AA765AF6FAC6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C8F802-DBA1-4F68-B878-E47DE4D2B16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7DC1E9-9183-4AC2-B047-B9108DB64F2B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5BB8AF-E7BC-407D-998B-000312830D4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3FBA91-A39B-43B7-82F7-19F3FF91384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067EFA-B99A-4282-A99A-80C7ABA4532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DFE8D2-DEB4-43D5-9F77-45D72B0F50E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20DD25-7A35-418E-95C6-7725BE23904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0605B2-72D3-4100-AFB8-EDDAF3C59530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BFD99C-1F02-471A-ABD5-7FE2DF06FAE3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3CE9D3-DACA-4FC3-8CC1-7FB6C1C779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5A5D4-E8BB-4408-A59F-78E71748D4F1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10609A-6442-475F-A9EA-E3EF0C338B6D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6322E6-907E-46F5-92F2-A40EE697C423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7F6165-D68F-4890-B328-C1F39BC6C79A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E7D14-5179-44B3-9113-67874CB9CAF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67007-7EB9-4B62-A5F2-20DCBEFE215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E9F27-D28F-4707-9E65-4864F7A9B78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56A16-CDDF-4B3A-AE3C-10A3E8EABE6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F3112-0B84-45DE-B2C1-FDD26FBFB05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757D8-48B1-4157-AAEB-66826B97765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9D7E3-0B97-40A5-A9BA-F9E7AFD3D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53B4-BB1F-4184-A3AF-5215811E35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F15B8-89DA-48BE-BBD8-59EBEE84935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4B617-2049-42F6-9200-896F1EBECF7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77BC7-A70E-420C-8281-3A4B7E3D715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ABEB3-05FB-42F2-BD8D-CCAE8044A19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BFDC6-E9D2-466E-A6CB-79D8E7082A9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27CC3-FA64-4B40-B4BB-0C6F7C2ADFB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EB81D-DA5E-4C99-BB75-CB5A2472076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DDD783-2FC4-4995-8BE2-8026DC7BFBC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BDEC1B-D9C6-46B7-9E5C-B72BA760208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F160B6-4D93-4BFE-883F-FDBEFE7E782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8A53C8-DB1A-45F0-A743-72D9031C41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EEAB3-7327-412E-AFF0-10F0C33A8A19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447AD0-237F-49A2-8018-AD9CEF83718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C70787-739F-4AD3-ACB6-A781D7128A8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D8857C-92FA-4CE1-9F00-6C53A7F5A86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9C37A2-4145-4905-88DE-122DF1211574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1A03AC-C68C-4C54-937B-A7F276A6405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8A0D0D-D30B-45D1-9A46-B0DC875DE620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38A99F-4CDC-4930-BCE8-FB956D98746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B28D66-A957-4E53-BCA2-3D98F7B1B53A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78ACA6-3A04-4346-98A2-9E564AFCED02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D3897F-F6CF-494B-AD31-7BB45BDAB5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CF13B-C93C-4CC1-AA96-0D764EB321A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4C7683-66C8-4575-B6B0-83B2652B657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E9159D-FDA4-4AF8-A33F-52AEB7C549F8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134C4C-1A26-4211-96A5-227F83E96B7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F6E9CE-BA94-41C9-AF05-872417C7CDF0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73E104-2728-4DED-B27C-85D4F7DFAFD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760472-2EC5-4F27-86FE-767936E5351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727BC5-D9EE-4D2B-B8CE-360B4F378C0B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CFB4F8-D9DB-43AF-BFEE-370BFC3D7DA2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5BD9A1-642B-4D15-97F6-9E11FDE3562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5E81A-1815-4EFD-85C8-9B139CC5E5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DF1A-42B9-4BC6-946C-1282DE698A96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EBD34-2CB6-448A-849C-90F3286DBE6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E9619-F524-42ED-AD96-99985973B64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400B4-B920-4C8E-BA7B-EBEAAF22A51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3D839-39F1-47A2-98F4-0813581B1E1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45988-397B-4525-876C-05D3BAA694AC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3E5E2-25B8-4B26-8D68-F835AC75C3B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50FBF-03E1-450A-BB8D-F5523676E0D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D5C04-9995-493A-9AE7-12371CAA6FB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B08DA-C2F3-4FD9-BE22-B9FCEF9167D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02BE0-7B18-4BE5-84F9-D9CE2D310E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553F-E54E-4855-B9C1-39F7F17BC594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9AA2B-6835-4998-BC4A-759BCFF8BE6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E343BB-44A2-4B5F-8AC0-D97333FC5F8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8B1E05-3D8E-4BA5-BDEA-D33BE87DDFC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64AFA8-4ADE-4301-89EC-89F7DAFAB0B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AE15AD-B62D-4ACF-93F4-18E5BB004BC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8A0A7D-BC2A-487F-8365-C24DD92F189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B8985D-EBCF-4FD6-914C-847C69746F5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283BA7-5772-436D-AA54-A2EBE9C4D19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E7F7A3-271B-4A58-8AA9-05012688447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A1D7E4-C6A8-4F32-875D-270692C6EC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F1817-26DD-488C-9F0E-250267D00C0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5585B6-C0D1-4939-ABA4-1A8B8BD9B0D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732149-4B36-4B3E-95DD-C9C4097040D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65DE4D-19A9-4821-8C97-E8BCF2E9F6C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874FDB-AEF2-4797-BB01-CCEDD7F49B52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B38337-8177-4070-9591-90C19E18950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060161-4734-469E-A84D-F2AA82BF565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07ED4B-8752-4225-8197-78BE0E583CE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096919-60B6-44D3-B424-99EB812A27A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E7289B-5D84-4537-B6E7-55BDE22B5E8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4F9131-F59C-43C5-80A9-1F139F5CE2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C467E-4E09-492C-8605-66B570F1A2B2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C0768B-D220-49EC-ACFD-6D68814728B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FF359D-ED40-46E3-AE43-7C144248D3D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5D70BE-3581-4FD8-B5F7-BA752FCCE29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8449CA-39F8-4E16-A7F0-CC7A55A65EC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2F655C-E05F-4697-B44A-5D29A903502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2D4E6-E3A7-4B36-8A06-2E87257E8F9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BDBEF-35CC-4A3C-A522-260AA9A0FAC1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6F838-46D7-4D6C-ABAA-EFC4DC5AE778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3A8AD-703E-47A1-BE90-4F99EE359CA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83EE1-EE6A-4593-A455-D63BE1B3EB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3EEE-3F66-44E2-A665-6C67FED942F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E352A-7A45-4C20-B9FD-9ADE62CB9761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0ED38-8598-495F-A304-35384100C0C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91603-E88F-44B2-AFC0-9F4F798E262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DEC5F-DF41-41C2-BB75-EE87F8A06C9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A8622-B022-4813-81FD-54069EF0E99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D364C-852F-43FA-8C82-1AAE0CE779A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75914-0652-4A4D-91D1-763882F8B30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28194A-E5F2-4DFD-BDDB-82AE240D4436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23F86A-0152-4BE2-9975-8DD53D88F23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F08CF88-C5A8-4B3E-BCBD-3DF53E9F52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BFABB-D9EC-46B9-A18E-4F1B7E7B515C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6873CD-D50B-4A7A-A953-4908C158254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7C15E5-12A9-46E4-9D0C-32E6AB23A83B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A7BFE8-8DC3-46F0-BDD1-9D490D74CEC1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118405-96C8-4814-96B1-35A0BBC470A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432A88-720F-498B-BBAB-4C4167C44C48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8FB92C-C4E6-4192-BD82-A37E3DC5FCE7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05506F-C062-4CA1-9AE4-F99CBCBE2B1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09AE92-2894-4BF2-A31C-FDD89A47601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01F1D7-12FB-461C-A493-D0B112EBFD5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170DD6-D47D-475E-853D-5D4E5DD8AB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F5AE8-00F6-42AC-9884-36C111BC8594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4875D3-1BA8-41DB-8F4F-7D27F9CDC7DF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C939EF-CC15-4828-B836-F3C08DB31C3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FCF501-3433-4B5C-8583-85728718467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34C8B6-92B2-4B7B-AC84-E7A78A35B7C1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B86DF9-3336-4C79-9BE9-4D291CEBE7FA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803765-415E-4DF1-8E32-73B7A2A0447B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68237F-FDA1-433B-BCFC-A296ED789B8A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71779D-BDB1-4C7A-8AB5-78CEACEB1CD8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178D83-21E2-483F-AF33-106B2B9BBC1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851D0A-21E0-432E-89D6-5C92045FD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E535-DE98-426A-9311-5CDA38C3CD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7BC0D-6A8A-40A9-BF17-23EC9123E162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15E49A-DF89-4DC3-869E-8C452EC09A45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6F094-F1F8-45F8-8322-F9F24D244C0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6FE70-8FD4-4A47-A742-0290C39130F5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077EC-F74B-4D9D-8E6B-B588A8E83B1D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6FADD-FEC8-4BEC-9008-8A32C250CF1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2CFEF-5D9B-409B-9C28-36F356A14E51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41163-FDBE-4642-A81A-09C521412D0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6E6FA-BFF6-4D04-B028-A7DE8C1F68A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8C860-30EA-435D-B60B-FB24C072EF7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799DF-7EC9-4D7B-842D-96A67E4762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C474-9360-4655-98D6-F5575BCE50C0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2DCFF-CAE3-4FA0-B224-B9A511B04A18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88536-9F09-4D97-9F91-8F3D82F4602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BED82-50B8-42C2-B426-78B58AD7971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2A883A-2112-432E-A286-386D953B3A13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748C91-EBC8-4E3D-919F-085CFAA9B2C7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120F97-C1F4-4F81-8257-234DD3891BB4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9FAE6B-B8E8-4972-AFF6-670CDDED716C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6FC5B2-48A5-471C-84F6-FE51E8026197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192E6C-7503-44F9-B92A-C0568D1D19C4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621729-E04D-4FF6-B8A3-EAB41F0F73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D12D-65E2-44F7-B559-84BE5CB80919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8D9974-6B66-4630-8515-35B95CC2BBED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AFEA16-5D5A-4232-866E-2A49C9E5E30D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2E97BA-DA3B-43B2-A01B-AE523DCD79B4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92A667-4B10-4906-9CCB-EB6174571154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C86C65-6447-406F-914D-98F1388382B0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384003-866C-4202-8677-C4125DEC28B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97C8EE-0E5B-470D-A794-FACB235B3A74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3A6CFC-9A3F-41B6-AA47-C7123D030537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E04741-63A8-4D3D-A041-2FE20BBD8B5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878603-06AD-4543-B649-1FD97EFB6B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3DF-2DEC-4106-8F75-ED63E7F4B65C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2FBEAF-B51F-4217-9248-98207ED053F4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58F575-1351-482C-A95B-8BE0B46F121F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38D37C-BD91-468F-BC24-3585335C6FE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12BF2B-FA1F-4E95-B989-CF4299F15B17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C046CD-1491-4D8E-805A-118FA62C38B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5CE898-BF7B-4EBF-BE9F-9283E8157252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5B3E42-69F4-41D1-A7A8-0653277CED0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68CBD-936A-4397-AC5F-0BEFF3EEF19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AA086-07FA-4E97-9777-610595AA707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4D4DF-1F80-44AC-B275-F048596792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70F-7BC7-4D21-9B1D-3C3C2267A693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D64CF-47A3-495E-A462-85658483D140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4F73C-BE31-4383-8ED9-67717AA36092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79C53-DFEA-43AE-B3EB-252A45B97DAE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CE611-887D-44D6-878B-8AC87315C62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938AD-46A5-40EF-A38E-F7D2B4ACC46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C1C37-3B67-4E36-9AC0-90FAF48E74B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0A572-1DF0-45F6-8538-CEBF1A6A61A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8C11F-98E2-4917-B9D3-09BC706F5AA7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CD946-83C3-445E-A304-5998734A3C91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4B3E8C-16BC-4556-8878-F216DA6E7C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B04B-1BB7-40C7-98E6-4B6BA6FACD0A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42DE65-C53B-4180-96C7-59877E42CD0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0AEC00-93D7-4133-A2FD-B723E548B43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68DF58-CD25-4EAC-88A0-B4F2B7D3400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372353C-8340-4658-98BB-2396E89FAC8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388AE30-D5CB-4512-BD7D-A9C4D4315B6C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506F38-6074-4B50-93DB-4CB4370287B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8312D4-005C-40A5-B8BE-AE79881ACFC6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05F3A0-D93E-4BF1-A9FF-A0239A4A28DE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22EB0B-6C27-4397-9307-6E7703827E3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9124AB-0E63-4E0C-8C27-9EA01CEBF3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D46C-A175-46E2-BEEB-2E76C9E07259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448465-9A3C-46F4-8A0F-C2BD5A47D7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A68C-D515-40F6-A186-1986C66365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51D7-8098-46DB-9C81-510B33B5D7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D4B-0576-4C3D-8AA0-2AF8AD4DD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9A74-A28B-471E-8FD1-E5D35D2A2E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5453-D0B6-4AC7-82DF-7CF9D79062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8D41-4085-4D55-A97D-3E7524BE85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380-7A80-4195-8308-6AA99D8E48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FA162-9061-4B2F-9CE4-4E254365A82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6DA2F-0A50-49BF-971A-6A866CAB8F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3BC93-DE4F-4800-B1D1-0B9A60E855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80120-FA05-40ED-AAE9-EA9C0078A5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85186-054C-493B-814E-A6B2DA8A54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CDCEE-DA2C-4C87-BB5F-51922B9318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9E0D1-4171-4D74-8E1B-F9CC2D72C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08F3-0CD0-449F-A33D-AA231EF903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63536-4326-4916-9F69-FAE79B0A97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03B84-AB8C-4456-8B0B-63D22088BC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8EE66-5941-472E-B0F0-C1718184C5E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8110A-45CF-495B-9DB6-FE8013E0B0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25296-DD29-47DE-B566-354B499A2E5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E17CB-21B5-40E8-BAD8-EA330E277F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5729F-07C9-4D12-8830-486654DE41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F3899-D905-4069-BB3B-F7674F55F53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2F2B-FDA5-4A8D-BAFF-0F5B8098DF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A670C-D080-4AAB-AEF9-70F2CFBF3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7B38-9B95-4744-AD0D-A3E670F2AF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6170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B1212-A477-4EA2-B12F-9599E5045B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84EED-453D-4828-9DF3-9D68597D51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9831B-2AF1-4A8E-90E8-6C1645FAC7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19F7A-FAD8-4791-BB9A-9852573D34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EDE7F-5A7A-443F-AA9A-E60A5DE7BD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8448F-F3AD-41A2-B0DC-7C2BE02438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37F86-FDB7-47AC-9B88-72E65953C4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10B6-6A6C-4EFE-8A4C-19F06475C1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EBB8-6051-4B23-8EA2-E057F3101E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36EA-2246-434E-A405-D6101D130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85.xml"/><Relationship Id="rId7" Type="http://schemas.openxmlformats.org/officeDocument/2006/relationships/slideLayout" Target="../slideLayouts/slideLayout386.xml"/><Relationship Id="rId8" Type="http://schemas.openxmlformats.org/officeDocument/2006/relationships/slideLayout" Target="../slideLayouts/slideLayout387.xml"/><Relationship Id="rId9" Type="http://schemas.openxmlformats.org/officeDocument/2006/relationships/slideLayout" Target="../slideLayouts/slideLayout388.xml"/><Relationship Id="rId10" Type="http://schemas.openxmlformats.org/officeDocument/2006/relationships/slideLayout" Target="../slideLayouts/slideLayout389.xml"/><Relationship Id="rId11" Type="http://schemas.openxmlformats.org/officeDocument/2006/relationships/slideLayout" Target="../slideLayouts/slideLayout390.xml"/><Relationship Id="rId12" Type="http://schemas.openxmlformats.org/officeDocument/2006/relationships/slideLayout" Target="../slideLayouts/slideLayout391.xml"/><Relationship Id="rId13" Type="http://schemas.openxmlformats.org/officeDocument/2006/relationships/slideLayout" Target="../slideLayouts/slideLayout392.xml"/><Relationship Id="rId14" Type="http://schemas.openxmlformats.org/officeDocument/2006/relationships/slideLayout" Target="../slideLayouts/slideLayout393.xml"/><Relationship Id="rId15" Type="http://schemas.openxmlformats.org/officeDocument/2006/relationships/slideLayout" Target="../slideLayouts/slideLayout394.xml"/><Relationship Id="rId16" Type="http://schemas.openxmlformats.org/officeDocument/2006/relationships/slideLayout" Target="../slideLayouts/slideLayout395.xml"/><Relationship Id="rId17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97.xml"/><Relationship Id="rId7" Type="http://schemas.openxmlformats.org/officeDocument/2006/relationships/slideLayout" Target="../slideLayouts/slideLayout398.xml"/><Relationship Id="rId8" Type="http://schemas.openxmlformats.org/officeDocument/2006/relationships/slideLayout" Target="../slideLayouts/slideLayout399.xml"/><Relationship Id="rId9" Type="http://schemas.openxmlformats.org/officeDocument/2006/relationships/slideLayout" Target="../slideLayouts/slideLayout400.xml"/><Relationship Id="rId10" Type="http://schemas.openxmlformats.org/officeDocument/2006/relationships/slideLayout" Target="../slideLayouts/slideLayout401.xml"/><Relationship Id="rId11" Type="http://schemas.openxmlformats.org/officeDocument/2006/relationships/slideLayout" Target="../slideLayouts/slideLayout402.xml"/><Relationship Id="rId12" Type="http://schemas.openxmlformats.org/officeDocument/2006/relationships/slideLayout" Target="../slideLayouts/slideLayout403.xml"/><Relationship Id="rId13" Type="http://schemas.openxmlformats.org/officeDocument/2006/relationships/slideLayout" Target="../slideLayouts/slideLayout404.xml"/><Relationship Id="rId14" Type="http://schemas.openxmlformats.org/officeDocument/2006/relationships/slideLayout" Target="../slideLayouts/slideLayout405.xml"/><Relationship Id="rId15" Type="http://schemas.openxmlformats.org/officeDocument/2006/relationships/slideLayout" Target="../slideLayouts/slideLayout406.xml"/><Relationship Id="rId16" Type="http://schemas.openxmlformats.org/officeDocument/2006/relationships/slideLayout" Target="../slideLayouts/slideLayout407.xml"/><Relationship Id="rId17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09.xml"/><Relationship Id="rId7" Type="http://schemas.openxmlformats.org/officeDocument/2006/relationships/slideLayout" Target="../slideLayouts/slideLayout410.xml"/><Relationship Id="rId8" Type="http://schemas.openxmlformats.org/officeDocument/2006/relationships/slideLayout" Target="../slideLayouts/slideLayout411.xml"/><Relationship Id="rId9" Type="http://schemas.openxmlformats.org/officeDocument/2006/relationships/slideLayout" Target="../slideLayouts/slideLayout412.xml"/><Relationship Id="rId10" Type="http://schemas.openxmlformats.org/officeDocument/2006/relationships/slideLayout" Target="../slideLayouts/slideLayout413.xml"/><Relationship Id="rId11" Type="http://schemas.openxmlformats.org/officeDocument/2006/relationships/slideLayout" Target="../slideLayouts/slideLayout414.xml"/><Relationship Id="rId12" Type="http://schemas.openxmlformats.org/officeDocument/2006/relationships/slideLayout" Target="../slideLayouts/slideLayout415.xml"/><Relationship Id="rId13" Type="http://schemas.openxmlformats.org/officeDocument/2006/relationships/slideLayout" Target="../slideLayouts/slideLayout416.xml"/><Relationship Id="rId14" Type="http://schemas.openxmlformats.org/officeDocument/2006/relationships/slideLayout" Target="../slideLayouts/slideLayout417.xml"/><Relationship Id="rId15" Type="http://schemas.openxmlformats.org/officeDocument/2006/relationships/slideLayout" Target="../slideLayouts/slideLayout418.xml"/><Relationship Id="rId16" Type="http://schemas.openxmlformats.org/officeDocument/2006/relationships/slideLayout" Target="../slideLayouts/slideLayout419.xml"/><Relationship Id="rId17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33.xml"/><Relationship Id="rId7" Type="http://schemas.openxmlformats.org/officeDocument/2006/relationships/slideLayout" Target="../slideLayouts/slideLayout434.xml"/><Relationship Id="rId8" Type="http://schemas.openxmlformats.org/officeDocument/2006/relationships/slideLayout" Target="../slideLayouts/slideLayout435.xml"/><Relationship Id="rId9" Type="http://schemas.openxmlformats.org/officeDocument/2006/relationships/slideLayout" Target="../slideLayouts/slideLayout436.xml"/><Relationship Id="rId10" Type="http://schemas.openxmlformats.org/officeDocument/2006/relationships/slideLayout" Target="../slideLayouts/slideLayout437.xml"/><Relationship Id="rId11" Type="http://schemas.openxmlformats.org/officeDocument/2006/relationships/slideLayout" Target="../slideLayouts/slideLayout438.xml"/><Relationship Id="rId12" Type="http://schemas.openxmlformats.org/officeDocument/2006/relationships/slideLayout" Target="../slideLayouts/slideLayout439.xml"/><Relationship Id="rId13" Type="http://schemas.openxmlformats.org/officeDocument/2006/relationships/slideLayout" Target="../slideLayouts/slideLayout440.xml"/><Relationship Id="rId14" Type="http://schemas.openxmlformats.org/officeDocument/2006/relationships/slideLayout" Target="../slideLayouts/slideLayout441.xml"/><Relationship Id="rId15" Type="http://schemas.openxmlformats.org/officeDocument/2006/relationships/slideLayout" Target="../slideLayouts/slideLayout442.xml"/><Relationship Id="rId16" Type="http://schemas.openxmlformats.org/officeDocument/2006/relationships/slideLayout" Target="../slideLayouts/slideLayout443.xml"/><Relationship Id="rId17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45.xml"/><Relationship Id="rId7" Type="http://schemas.openxmlformats.org/officeDocument/2006/relationships/slideLayout" Target="../slideLayouts/slideLayout446.xml"/><Relationship Id="rId8" Type="http://schemas.openxmlformats.org/officeDocument/2006/relationships/slideLayout" Target="../slideLayouts/slideLayout447.xml"/><Relationship Id="rId9" Type="http://schemas.openxmlformats.org/officeDocument/2006/relationships/slideLayout" Target="../slideLayouts/slideLayout448.xml"/><Relationship Id="rId10" Type="http://schemas.openxmlformats.org/officeDocument/2006/relationships/slideLayout" Target="../slideLayouts/slideLayout449.xml"/><Relationship Id="rId11" Type="http://schemas.openxmlformats.org/officeDocument/2006/relationships/slideLayout" Target="../slideLayouts/slideLayout450.xml"/><Relationship Id="rId12" Type="http://schemas.openxmlformats.org/officeDocument/2006/relationships/slideLayout" Target="../slideLayouts/slideLayout451.xml"/><Relationship Id="rId13" Type="http://schemas.openxmlformats.org/officeDocument/2006/relationships/slideLayout" Target="../slideLayouts/slideLayout452.xml"/><Relationship Id="rId14" Type="http://schemas.openxmlformats.org/officeDocument/2006/relationships/slideLayout" Target="../slideLayouts/slideLayout453.xml"/><Relationship Id="rId15" Type="http://schemas.openxmlformats.org/officeDocument/2006/relationships/slideLayout" Target="../slideLayouts/slideLayout454.xml"/><Relationship Id="rId16" Type="http://schemas.openxmlformats.org/officeDocument/2006/relationships/slideLayout" Target="../slideLayouts/slideLayout455.xml"/><Relationship Id="rId17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57.xml"/><Relationship Id="rId7" Type="http://schemas.openxmlformats.org/officeDocument/2006/relationships/slideLayout" Target="../slideLayouts/slideLayout458.xml"/><Relationship Id="rId8" Type="http://schemas.openxmlformats.org/officeDocument/2006/relationships/slideLayout" Target="../slideLayouts/slideLayout459.xml"/><Relationship Id="rId9" Type="http://schemas.openxmlformats.org/officeDocument/2006/relationships/slideLayout" Target="../slideLayouts/slideLayout460.xml"/><Relationship Id="rId10" Type="http://schemas.openxmlformats.org/officeDocument/2006/relationships/slideLayout" Target="../slideLayouts/slideLayout461.xml"/><Relationship Id="rId11" Type="http://schemas.openxmlformats.org/officeDocument/2006/relationships/slideLayout" Target="../slideLayouts/slideLayout462.xml"/><Relationship Id="rId12" Type="http://schemas.openxmlformats.org/officeDocument/2006/relationships/slideLayout" Target="../slideLayouts/slideLayout463.xml"/><Relationship Id="rId13" Type="http://schemas.openxmlformats.org/officeDocument/2006/relationships/slideLayout" Target="../slideLayouts/slideLayout464.xml"/><Relationship Id="rId14" Type="http://schemas.openxmlformats.org/officeDocument/2006/relationships/slideLayout" Target="../slideLayouts/slideLayout465.xml"/><Relationship Id="rId15" Type="http://schemas.openxmlformats.org/officeDocument/2006/relationships/slideLayout" Target="../slideLayouts/slideLayout466.xml"/><Relationship Id="rId16" Type="http://schemas.openxmlformats.org/officeDocument/2006/relationships/slideLayout" Target="../slideLayouts/slideLayout467.xml"/><Relationship Id="rId17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69.xml"/><Relationship Id="rId7" Type="http://schemas.openxmlformats.org/officeDocument/2006/relationships/slideLayout" Target="../slideLayouts/slideLayout470.xml"/><Relationship Id="rId8" Type="http://schemas.openxmlformats.org/officeDocument/2006/relationships/slideLayout" Target="../slideLayouts/slideLayout471.xml"/><Relationship Id="rId9" Type="http://schemas.openxmlformats.org/officeDocument/2006/relationships/slideLayout" Target="../slideLayouts/slideLayout472.xml"/><Relationship Id="rId10" Type="http://schemas.openxmlformats.org/officeDocument/2006/relationships/slideLayout" Target="../slideLayouts/slideLayout473.xml"/><Relationship Id="rId11" Type="http://schemas.openxmlformats.org/officeDocument/2006/relationships/slideLayout" Target="../slideLayouts/slideLayout474.xml"/><Relationship Id="rId12" Type="http://schemas.openxmlformats.org/officeDocument/2006/relationships/slideLayout" Target="../slideLayouts/slideLayout475.xml"/><Relationship Id="rId13" Type="http://schemas.openxmlformats.org/officeDocument/2006/relationships/slideLayout" Target="../slideLayouts/slideLayout476.xml"/><Relationship Id="rId14" Type="http://schemas.openxmlformats.org/officeDocument/2006/relationships/slideLayout" Target="../slideLayouts/slideLayout477.xml"/><Relationship Id="rId15" Type="http://schemas.openxmlformats.org/officeDocument/2006/relationships/slideLayout" Target="../slideLayouts/slideLayout478.xml"/><Relationship Id="rId16" Type="http://schemas.openxmlformats.org/officeDocument/2006/relationships/slideLayout" Target="../slideLayouts/slideLayout479.xml"/><Relationship Id="rId17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81.xml"/><Relationship Id="rId7" Type="http://schemas.openxmlformats.org/officeDocument/2006/relationships/slideLayout" Target="../slideLayouts/slideLayout482.xml"/><Relationship Id="rId8" Type="http://schemas.openxmlformats.org/officeDocument/2006/relationships/slideLayout" Target="../slideLayouts/slideLayout483.xml"/><Relationship Id="rId9" Type="http://schemas.openxmlformats.org/officeDocument/2006/relationships/slideLayout" Target="../slideLayouts/slideLayout484.xml"/><Relationship Id="rId10" Type="http://schemas.openxmlformats.org/officeDocument/2006/relationships/slideLayout" Target="../slideLayouts/slideLayout485.xml"/><Relationship Id="rId11" Type="http://schemas.openxmlformats.org/officeDocument/2006/relationships/slideLayout" Target="../slideLayouts/slideLayout486.xml"/><Relationship Id="rId12" Type="http://schemas.openxmlformats.org/officeDocument/2006/relationships/slideLayout" Target="../slideLayouts/slideLayout487.xml"/><Relationship Id="rId13" Type="http://schemas.openxmlformats.org/officeDocument/2006/relationships/slideLayout" Target="../slideLayouts/slideLayout488.xml"/><Relationship Id="rId14" Type="http://schemas.openxmlformats.org/officeDocument/2006/relationships/slideLayout" Target="../slideLayouts/slideLayout489.xml"/><Relationship Id="rId15" Type="http://schemas.openxmlformats.org/officeDocument/2006/relationships/slideLayout" Target="../slideLayouts/slideLayout490.xml"/><Relationship Id="rId16" Type="http://schemas.openxmlformats.org/officeDocument/2006/relationships/slideLayout" Target="../slideLayouts/slideLayout491.xml"/><Relationship Id="rId17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93.xml"/><Relationship Id="rId7" Type="http://schemas.openxmlformats.org/officeDocument/2006/relationships/slideLayout" Target="../slideLayouts/slideLayout494.xml"/><Relationship Id="rId8" Type="http://schemas.openxmlformats.org/officeDocument/2006/relationships/slideLayout" Target="../slideLayouts/slideLayout495.xml"/><Relationship Id="rId9" Type="http://schemas.openxmlformats.org/officeDocument/2006/relationships/slideLayout" Target="../slideLayouts/slideLayout496.xml"/><Relationship Id="rId10" Type="http://schemas.openxmlformats.org/officeDocument/2006/relationships/slideLayout" Target="../slideLayouts/slideLayout497.xml"/><Relationship Id="rId11" Type="http://schemas.openxmlformats.org/officeDocument/2006/relationships/slideLayout" Target="../slideLayouts/slideLayout498.xml"/><Relationship Id="rId12" Type="http://schemas.openxmlformats.org/officeDocument/2006/relationships/slideLayout" Target="../slideLayouts/slideLayout499.xml"/><Relationship Id="rId13" Type="http://schemas.openxmlformats.org/officeDocument/2006/relationships/slideLayout" Target="../slideLayouts/slideLayout500.xml"/><Relationship Id="rId14" Type="http://schemas.openxmlformats.org/officeDocument/2006/relationships/slideLayout" Target="../slideLayouts/slideLayout501.xml"/><Relationship Id="rId15" Type="http://schemas.openxmlformats.org/officeDocument/2006/relationships/slideLayout" Target="../slideLayouts/slideLayout502.xml"/><Relationship Id="rId16" Type="http://schemas.openxmlformats.org/officeDocument/2006/relationships/slideLayout" Target="../slideLayouts/slideLayout503.xml"/><Relationship Id="rId17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05.xml"/><Relationship Id="rId7" Type="http://schemas.openxmlformats.org/officeDocument/2006/relationships/slideLayout" Target="../slideLayouts/slideLayout506.xml"/><Relationship Id="rId8" Type="http://schemas.openxmlformats.org/officeDocument/2006/relationships/slideLayout" Target="../slideLayouts/slideLayout507.xml"/><Relationship Id="rId9" Type="http://schemas.openxmlformats.org/officeDocument/2006/relationships/slideLayout" Target="../slideLayouts/slideLayout508.xml"/><Relationship Id="rId10" Type="http://schemas.openxmlformats.org/officeDocument/2006/relationships/slideLayout" Target="../slideLayouts/slideLayout509.xml"/><Relationship Id="rId11" Type="http://schemas.openxmlformats.org/officeDocument/2006/relationships/slideLayout" Target="../slideLayouts/slideLayout510.xml"/><Relationship Id="rId12" Type="http://schemas.openxmlformats.org/officeDocument/2006/relationships/slideLayout" Target="../slideLayouts/slideLayout511.xml"/><Relationship Id="rId13" Type="http://schemas.openxmlformats.org/officeDocument/2006/relationships/slideLayout" Target="../slideLayouts/slideLayout512.xml"/><Relationship Id="rId14" Type="http://schemas.openxmlformats.org/officeDocument/2006/relationships/slideLayout" Target="../slideLayouts/slideLayout513.xml"/><Relationship Id="rId15" Type="http://schemas.openxmlformats.org/officeDocument/2006/relationships/slideLayout" Target="../slideLayouts/slideLayout514.xml"/><Relationship Id="rId16" Type="http://schemas.openxmlformats.org/officeDocument/2006/relationships/slideLayout" Target="../slideLayouts/slideLayout515.xml"/><Relationship Id="rId17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17.xml"/><Relationship Id="rId7" Type="http://schemas.openxmlformats.org/officeDocument/2006/relationships/slideLayout" Target="../slideLayouts/slideLayout518.xml"/><Relationship Id="rId8" Type="http://schemas.openxmlformats.org/officeDocument/2006/relationships/slideLayout" Target="../slideLayouts/slideLayout519.xml"/><Relationship Id="rId9" Type="http://schemas.openxmlformats.org/officeDocument/2006/relationships/slideLayout" Target="../slideLayouts/slideLayout520.xml"/><Relationship Id="rId10" Type="http://schemas.openxmlformats.org/officeDocument/2006/relationships/slideLayout" Target="../slideLayouts/slideLayout521.xml"/><Relationship Id="rId11" Type="http://schemas.openxmlformats.org/officeDocument/2006/relationships/slideLayout" Target="../slideLayouts/slideLayout522.xml"/><Relationship Id="rId12" Type="http://schemas.openxmlformats.org/officeDocument/2006/relationships/slideLayout" Target="../slideLayouts/slideLayout523.xml"/><Relationship Id="rId13" Type="http://schemas.openxmlformats.org/officeDocument/2006/relationships/slideLayout" Target="../slideLayouts/slideLayout524.xml"/><Relationship Id="rId14" Type="http://schemas.openxmlformats.org/officeDocument/2006/relationships/slideLayout" Target="../slideLayouts/slideLayout525.xml"/><Relationship Id="rId15" Type="http://schemas.openxmlformats.org/officeDocument/2006/relationships/slideLayout" Target="../slideLayouts/slideLayout526.xml"/><Relationship Id="rId16" Type="http://schemas.openxmlformats.org/officeDocument/2006/relationships/slideLayout" Target="../slideLayouts/slideLayout527.xml"/><Relationship Id="rId17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29.xml"/><Relationship Id="rId7" Type="http://schemas.openxmlformats.org/officeDocument/2006/relationships/slideLayout" Target="../slideLayouts/slideLayout530.xml"/><Relationship Id="rId8" Type="http://schemas.openxmlformats.org/officeDocument/2006/relationships/slideLayout" Target="../slideLayouts/slideLayout531.xml"/><Relationship Id="rId9" Type="http://schemas.openxmlformats.org/officeDocument/2006/relationships/slideLayout" Target="../slideLayouts/slideLayout532.xml"/><Relationship Id="rId10" Type="http://schemas.openxmlformats.org/officeDocument/2006/relationships/slideLayout" Target="../slideLayouts/slideLayout533.xml"/><Relationship Id="rId11" Type="http://schemas.openxmlformats.org/officeDocument/2006/relationships/slideLayout" Target="../slideLayouts/slideLayout534.xml"/><Relationship Id="rId12" Type="http://schemas.openxmlformats.org/officeDocument/2006/relationships/slideLayout" Target="../slideLayouts/slideLayout535.xml"/><Relationship Id="rId13" Type="http://schemas.openxmlformats.org/officeDocument/2006/relationships/slideLayout" Target="../slideLayouts/slideLayout536.xml"/><Relationship Id="rId14" Type="http://schemas.openxmlformats.org/officeDocument/2006/relationships/slideLayout" Target="../slideLayouts/slideLayout537.xml"/><Relationship Id="rId15" Type="http://schemas.openxmlformats.org/officeDocument/2006/relationships/slideLayout" Target="../slideLayouts/slideLayout538.xml"/><Relationship Id="rId16" Type="http://schemas.openxmlformats.org/officeDocument/2006/relationships/slideLayout" Target="../slideLayouts/slideLayout539.xml"/><Relationship Id="rId17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41.xml"/><Relationship Id="rId7" Type="http://schemas.openxmlformats.org/officeDocument/2006/relationships/slideLayout" Target="../slideLayouts/slideLayout542.xml"/><Relationship Id="rId8" Type="http://schemas.openxmlformats.org/officeDocument/2006/relationships/slideLayout" Target="../slideLayouts/slideLayout543.xml"/><Relationship Id="rId9" Type="http://schemas.openxmlformats.org/officeDocument/2006/relationships/slideLayout" Target="../slideLayouts/slideLayout544.xml"/><Relationship Id="rId10" Type="http://schemas.openxmlformats.org/officeDocument/2006/relationships/slideLayout" Target="../slideLayouts/slideLayout545.xml"/><Relationship Id="rId11" Type="http://schemas.openxmlformats.org/officeDocument/2006/relationships/slideLayout" Target="../slideLayouts/slideLayout546.xml"/><Relationship Id="rId12" Type="http://schemas.openxmlformats.org/officeDocument/2006/relationships/slideLayout" Target="../slideLayouts/slideLayout547.xml"/><Relationship Id="rId13" Type="http://schemas.openxmlformats.org/officeDocument/2006/relationships/slideLayout" Target="../slideLayouts/slideLayout548.xml"/><Relationship Id="rId14" Type="http://schemas.openxmlformats.org/officeDocument/2006/relationships/slideLayout" Target="../slideLayouts/slideLayout549.xml"/><Relationship Id="rId15" Type="http://schemas.openxmlformats.org/officeDocument/2006/relationships/slideLayout" Target="../slideLayouts/slideLayout550.xml"/><Relationship Id="rId16" Type="http://schemas.openxmlformats.org/officeDocument/2006/relationships/slideLayout" Target="../slideLayouts/slideLayout551.xml"/><Relationship Id="rId17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53.xml"/><Relationship Id="rId7" Type="http://schemas.openxmlformats.org/officeDocument/2006/relationships/slideLayout" Target="../slideLayouts/slideLayout554.xml"/><Relationship Id="rId8" Type="http://schemas.openxmlformats.org/officeDocument/2006/relationships/slideLayout" Target="../slideLayouts/slideLayout555.xml"/><Relationship Id="rId9" Type="http://schemas.openxmlformats.org/officeDocument/2006/relationships/slideLayout" Target="../slideLayouts/slideLayout556.xml"/><Relationship Id="rId10" Type="http://schemas.openxmlformats.org/officeDocument/2006/relationships/slideLayout" Target="../slideLayouts/slideLayout557.xml"/><Relationship Id="rId11" Type="http://schemas.openxmlformats.org/officeDocument/2006/relationships/slideLayout" Target="../slideLayouts/slideLayout558.xml"/><Relationship Id="rId12" Type="http://schemas.openxmlformats.org/officeDocument/2006/relationships/slideLayout" Target="../slideLayouts/slideLayout559.xml"/><Relationship Id="rId13" Type="http://schemas.openxmlformats.org/officeDocument/2006/relationships/slideLayout" Target="../slideLayouts/slideLayout560.xml"/><Relationship Id="rId14" Type="http://schemas.openxmlformats.org/officeDocument/2006/relationships/slideLayout" Target="../slideLayouts/slideLayout561.xml"/><Relationship Id="rId15" Type="http://schemas.openxmlformats.org/officeDocument/2006/relationships/slideLayout" Target="../slideLayouts/slideLayout562.xml"/><Relationship Id="rId16" Type="http://schemas.openxmlformats.org/officeDocument/2006/relationships/slideLayout" Target="../slideLayouts/slideLayout563.xml"/><Relationship Id="rId17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65.xml"/><Relationship Id="rId7" Type="http://schemas.openxmlformats.org/officeDocument/2006/relationships/slideLayout" Target="../slideLayouts/slideLayout566.xml"/><Relationship Id="rId8" Type="http://schemas.openxmlformats.org/officeDocument/2006/relationships/slideLayout" Target="../slideLayouts/slideLayout567.xml"/><Relationship Id="rId9" Type="http://schemas.openxmlformats.org/officeDocument/2006/relationships/slideLayout" Target="../slideLayouts/slideLayout568.xml"/><Relationship Id="rId10" Type="http://schemas.openxmlformats.org/officeDocument/2006/relationships/slideLayout" Target="../slideLayouts/slideLayout569.xml"/><Relationship Id="rId11" Type="http://schemas.openxmlformats.org/officeDocument/2006/relationships/slideLayout" Target="../slideLayouts/slideLayout570.xml"/><Relationship Id="rId12" Type="http://schemas.openxmlformats.org/officeDocument/2006/relationships/slideLayout" Target="../slideLayouts/slideLayout571.xml"/><Relationship Id="rId13" Type="http://schemas.openxmlformats.org/officeDocument/2006/relationships/slideLayout" Target="../slideLayouts/slideLayout572.xml"/><Relationship Id="rId14" Type="http://schemas.openxmlformats.org/officeDocument/2006/relationships/slideLayout" Target="../slideLayouts/slideLayout573.xml"/><Relationship Id="rId15" Type="http://schemas.openxmlformats.org/officeDocument/2006/relationships/slideLayout" Target="../slideLayouts/slideLayout574.xml"/><Relationship Id="rId16" Type="http://schemas.openxmlformats.org/officeDocument/2006/relationships/slideLayout" Target="../slideLayouts/slideLayout575.xml"/><Relationship Id="rId17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89.xml"/><Relationship Id="rId7" Type="http://schemas.openxmlformats.org/officeDocument/2006/relationships/slideLayout" Target="../slideLayouts/slideLayout590.xml"/><Relationship Id="rId8" Type="http://schemas.openxmlformats.org/officeDocument/2006/relationships/slideLayout" Target="../slideLayouts/slideLayout591.xml"/><Relationship Id="rId9" Type="http://schemas.openxmlformats.org/officeDocument/2006/relationships/slideLayout" Target="../slideLayouts/slideLayout592.xml"/><Relationship Id="rId10" Type="http://schemas.openxmlformats.org/officeDocument/2006/relationships/slideLayout" Target="../slideLayouts/slideLayout593.xml"/><Relationship Id="rId11" Type="http://schemas.openxmlformats.org/officeDocument/2006/relationships/slideLayout" Target="../slideLayouts/slideLayout594.xml"/><Relationship Id="rId12" Type="http://schemas.openxmlformats.org/officeDocument/2006/relationships/slideLayout" Target="../slideLayouts/slideLayout595.xml"/><Relationship Id="rId13" Type="http://schemas.openxmlformats.org/officeDocument/2006/relationships/slideLayout" Target="../slideLayouts/slideLayout596.xml"/><Relationship Id="rId14" Type="http://schemas.openxmlformats.org/officeDocument/2006/relationships/slideLayout" Target="../slideLayouts/slideLayout597.xml"/><Relationship Id="rId15" Type="http://schemas.openxmlformats.org/officeDocument/2006/relationships/slideLayout" Target="../slideLayouts/slideLayout598.xml"/><Relationship Id="rId16" Type="http://schemas.openxmlformats.org/officeDocument/2006/relationships/slideLayout" Target="../slideLayouts/slideLayout599.xml"/><Relationship Id="rId17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01.xml"/><Relationship Id="rId7" Type="http://schemas.openxmlformats.org/officeDocument/2006/relationships/slideLayout" Target="../slideLayouts/slideLayout602.xml"/><Relationship Id="rId8" Type="http://schemas.openxmlformats.org/officeDocument/2006/relationships/slideLayout" Target="../slideLayouts/slideLayout603.xml"/><Relationship Id="rId9" Type="http://schemas.openxmlformats.org/officeDocument/2006/relationships/slideLayout" Target="../slideLayouts/slideLayout604.xml"/><Relationship Id="rId10" Type="http://schemas.openxmlformats.org/officeDocument/2006/relationships/slideLayout" Target="../slideLayouts/slideLayout605.xml"/><Relationship Id="rId11" Type="http://schemas.openxmlformats.org/officeDocument/2006/relationships/slideLayout" Target="../slideLayouts/slideLayout606.xml"/><Relationship Id="rId12" Type="http://schemas.openxmlformats.org/officeDocument/2006/relationships/slideLayout" Target="../slideLayouts/slideLayout607.xml"/><Relationship Id="rId13" Type="http://schemas.openxmlformats.org/officeDocument/2006/relationships/slideLayout" Target="../slideLayouts/slideLayout608.xml"/><Relationship Id="rId14" Type="http://schemas.openxmlformats.org/officeDocument/2006/relationships/slideLayout" Target="../slideLayouts/slideLayout609.xml"/><Relationship Id="rId15" Type="http://schemas.openxmlformats.org/officeDocument/2006/relationships/slideLayout" Target="../slideLayouts/slideLayout610.xml"/><Relationship Id="rId16" Type="http://schemas.openxmlformats.org/officeDocument/2006/relationships/slideLayout" Target="../slideLayouts/slideLayout611.xml"/><Relationship Id="rId17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3.xml"/><Relationship Id="rId7" Type="http://schemas.openxmlformats.org/officeDocument/2006/relationships/slideLayout" Target="../slideLayouts/slideLayout614.xml"/><Relationship Id="rId8" Type="http://schemas.openxmlformats.org/officeDocument/2006/relationships/slideLayout" Target="../slideLayouts/slideLayout615.xml"/><Relationship Id="rId9" Type="http://schemas.openxmlformats.org/officeDocument/2006/relationships/slideLayout" Target="../slideLayouts/slideLayout616.xml"/><Relationship Id="rId10" Type="http://schemas.openxmlformats.org/officeDocument/2006/relationships/slideLayout" Target="../slideLayouts/slideLayout617.xml"/><Relationship Id="rId11" Type="http://schemas.openxmlformats.org/officeDocument/2006/relationships/slideLayout" Target="../slideLayouts/slideLayout618.xml"/><Relationship Id="rId12" Type="http://schemas.openxmlformats.org/officeDocument/2006/relationships/slideLayout" Target="../slideLayouts/slideLayout619.xml"/><Relationship Id="rId13" Type="http://schemas.openxmlformats.org/officeDocument/2006/relationships/slideLayout" Target="../slideLayouts/slideLayout620.xml"/><Relationship Id="rId14" Type="http://schemas.openxmlformats.org/officeDocument/2006/relationships/slideLayout" Target="../slideLayouts/slideLayout621.xml"/><Relationship Id="rId15" Type="http://schemas.openxmlformats.org/officeDocument/2006/relationships/slideLayout" Target="../slideLayouts/slideLayout622.xml"/><Relationship Id="rId16" Type="http://schemas.openxmlformats.org/officeDocument/2006/relationships/slideLayout" Target="../slideLayouts/slideLayout623.xml"/><Relationship Id="rId17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25.xml"/><Relationship Id="rId7" Type="http://schemas.openxmlformats.org/officeDocument/2006/relationships/slideLayout" Target="../slideLayouts/slideLayout626.xml"/><Relationship Id="rId8" Type="http://schemas.openxmlformats.org/officeDocument/2006/relationships/slideLayout" Target="../slideLayouts/slideLayout627.xml"/><Relationship Id="rId9" Type="http://schemas.openxmlformats.org/officeDocument/2006/relationships/slideLayout" Target="../slideLayouts/slideLayout628.xml"/><Relationship Id="rId10" Type="http://schemas.openxmlformats.org/officeDocument/2006/relationships/slideLayout" Target="../slideLayouts/slideLayout629.xml"/><Relationship Id="rId11" Type="http://schemas.openxmlformats.org/officeDocument/2006/relationships/slideLayout" Target="../slideLayouts/slideLayout630.xml"/><Relationship Id="rId12" Type="http://schemas.openxmlformats.org/officeDocument/2006/relationships/slideLayout" Target="../slideLayouts/slideLayout631.xml"/><Relationship Id="rId13" Type="http://schemas.openxmlformats.org/officeDocument/2006/relationships/slideLayout" Target="../slideLayouts/slideLayout632.xml"/><Relationship Id="rId14" Type="http://schemas.openxmlformats.org/officeDocument/2006/relationships/slideLayout" Target="../slideLayouts/slideLayout633.xml"/><Relationship Id="rId15" Type="http://schemas.openxmlformats.org/officeDocument/2006/relationships/slideLayout" Target="../slideLayouts/slideLayout634.xml"/><Relationship Id="rId16" Type="http://schemas.openxmlformats.org/officeDocument/2006/relationships/slideLayout" Target="../slideLayouts/slideLayout635.xml"/><Relationship Id="rId17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37.xml"/><Relationship Id="rId7" Type="http://schemas.openxmlformats.org/officeDocument/2006/relationships/slideLayout" Target="../slideLayouts/slideLayout638.xml"/><Relationship Id="rId8" Type="http://schemas.openxmlformats.org/officeDocument/2006/relationships/slideLayout" Target="../slideLayouts/slideLayout639.xml"/><Relationship Id="rId9" Type="http://schemas.openxmlformats.org/officeDocument/2006/relationships/slideLayout" Target="../slideLayouts/slideLayout640.xml"/><Relationship Id="rId10" Type="http://schemas.openxmlformats.org/officeDocument/2006/relationships/slideLayout" Target="../slideLayouts/slideLayout641.xml"/><Relationship Id="rId11" Type="http://schemas.openxmlformats.org/officeDocument/2006/relationships/slideLayout" Target="../slideLayouts/slideLayout642.xml"/><Relationship Id="rId12" Type="http://schemas.openxmlformats.org/officeDocument/2006/relationships/slideLayout" Target="../slideLayouts/slideLayout643.xml"/><Relationship Id="rId13" Type="http://schemas.openxmlformats.org/officeDocument/2006/relationships/slideLayout" Target="../slideLayouts/slideLayout644.xml"/><Relationship Id="rId14" Type="http://schemas.openxmlformats.org/officeDocument/2006/relationships/slideLayout" Target="../slideLayouts/slideLayout645.xml"/><Relationship Id="rId15" Type="http://schemas.openxmlformats.org/officeDocument/2006/relationships/slideLayout" Target="../slideLayouts/slideLayout646.xml"/><Relationship Id="rId16" Type="http://schemas.openxmlformats.org/officeDocument/2006/relationships/slideLayout" Target="../slideLayouts/slideLayout647.xml"/><Relationship Id="rId17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49.xml"/><Relationship Id="rId7" Type="http://schemas.openxmlformats.org/officeDocument/2006/relationships/slideLayout" Target="../slideLayouts/slideLayout650.xml"/><Relationship Id="rId8" Type="http://schemas.openxmlformats.org/officeDocument/2006/relationships/slideLayout" Target="../slideLayouts/slideLayout651.xml"/><Relationship Id="rId9" Type="http://schemas.openxmlformats.org/officeDocument/2006/relationships/slideLayout" Target="../slideLayouts/slideLayout652.xml"/><Relationship Id="rId10" Type="http://schemas.openxmlformats.org/officeDocument/2006/relationships/slideLayout" Target="../slideLayouts/slideLayout653.xml"/><Relationship Id="rId11" Type="http://schemas.openxmlformats.org/officeDocument/2006/relationships/slideLayout" Target="../slideLayouts/slideLayout654.xml"/><Relationship Id="rId12" Type="http://schemas.openxmlformats.org/officeDocument/2006/relationships/slideLayout" Target="../slideLayouts/slideLayout655.xml"/><Relationship Id="rId13" Type="http://schemas.openxmlformats.org/officeDocument/2006/relationships/slideLayout" Target="../slideLayouts/slideLayout656.xml"/><Relationship Id="rId14" Type="http://schemas.openxmlformats.org/officeDocument/2006/relationships/slideLayout" Target="../slideLayouts/slideLayout657.xml"/><Relationship Id="rId15" Type="http://schemas.openxmlformats.org/officeDocument/2006/relationships/slideLayout" Target="../slideLayouts/slideLayout658.xml"/><Relationship Id="rId16" Type="http://schemas.openxmlformats.org/officeDocument/2006/relationships/slideLayout" Target="../slideLayouts/slideLayout659.xml"/><Relationship Id="rId17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61A-DED5-465C-90F6-683FAD90529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39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39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0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AB55-10D2-4BBF-B007-BA4B9235F0E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43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44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1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7A8-6073-4E93-BBFC-6BE287C1429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48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48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2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0EFD-0334-4B2C-B793-B68C6B138A5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52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52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3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2FA-2E26-43A4-9A2A-4305BB16AF6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57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57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4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85E-F1F9-40D8-A867-0249A9F6776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61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61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15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3565-C90D-4DED-8C4F-5B17F4CD5AC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65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66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16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8639-95F4-4C35-8766-4F14963DAE1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70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70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17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807A-EBD3-4FC7-9047-0C8466F8D0A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74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74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Num" idx="18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66D-6376-491C-8BC1-4C15D6F1A23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79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79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sldNum" idx="19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84F-A63A-46CB-82FD-8FA93D45614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4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9C62-8010-41DD-9945-DEF70529FE9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83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83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20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4CCD-3D97-48C3-858D-7763493221C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87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88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2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0CF0-8C85-4CFE-98F0-29BF72FE968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92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92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Num" idx="22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B200-47A4-4130-B2F6-EDE1404667F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96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96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3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9335-CA34-43C8-B262-6C1B7967C07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01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01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24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AB4-0B0D-46D9-A196-2F88DD0AA60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05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05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sldNum" idx="25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2A6-E124-4B51-A471-771EA53895D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09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10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26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3062-936C-4299-BE40-8CB9A030D29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1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14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sldNum" idx="27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9E1E-72BB-4E4B-A116-3A9491916A3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18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18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28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7F12-8DF0-4985-9743-A0F1C1ED624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23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23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29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095C-5315-4FE5-BC8F-CCA46A8E10D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9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3" name="PlaceHolder 1"/>
          <p:cNvSpPr>
            <a:spLocks noGrp="1"/>
          </p:cNvSpPr>
          <p:nvPr>
            <p:ph type="sldNum" idx="3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54B1-6824-41CE-A38F-658BF878784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27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27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sldNum" idx="30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914-F67D-4DD7-9AA5-9771297CFA0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31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32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sldNum" idx="3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EBB-C2B4-418C-AC9B-1722CB5E40F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36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3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sldNum" idx="32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F7B-A596-458F-A460-5E7E8B23B5B9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40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40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sldNum" idx="33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F0E-9A30-48B5-AE60-126D011A10D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6"/>
    <p:sldLayoutId id="2147484066" r:id="rId7"/>
    <p:sldLayoutId id="2147484067" r:id="rId8"/>
    <p:sldLayoutId id="2147484068" r:id="rId9"/>
    <p:sldLayoutId id="2147484069" r:id="rId10"/>
    <p:sldLayoutId id="2147484070" r:id="rId11"/>
    <p:sldLayoutId id="2147484071" r:id="rId12"/>
    <p:sldLayoutId id="2147484072" r:id="rId13"/>
    <p:sldLayoutId id="2147484073" r:id="rId14"/>
    <p:sldLayoutId id="2147484074" r:id="rId15"/>
    <p:sldLayoutId id="2147484075" r:id="rId16"/>
    <p:sldLayoutId id="2147484076" r:id="rId17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45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45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4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4D9D-2912-47E2-B317-FBA33F7C7A2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6"/>
    <p:sldLayoutId id="2147484079" r:id="rId7"/>
    <p:sldLayoutId id="2147484080" r:id="rId8"/>
    <p:sldLayoutId id="2147484081" r:id="rId9"/>
    <p:sldLayoutId id="2147484082" r:id="rId10"/>
    <p:sldLayoutId id="2147484083" r:id="rId11"/>
    <p:sldLayoutId id="2147484084" r:id="rId12"/>
    <p:sldLayoutId id="2147484085" r:id="rId13"/>
    <p:sldLayoutId id="2147484086" r:id="rId14"/>
    <p:sldLayoutId id="2147484087" r:id="rId15"/>
    <p:sldLayoutId id="2147484088" r:id="rId16"/>
    <p:sldLayoutId id="2147484089" r:id="rId17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49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49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sldNum" idx="35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D290-E970-44DC-82C1-164B73B0B02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6"/>
    <p:sldLayoutId id="2147484092" r:id="rId7"/>
    <p:sldLayoutId id="2147484093" r:id="rId8"/>
    <p:sldLayoutId id="2147484094" r:id="rId9"/>
    <p:sldLayoutId id="2147484095" r:id="rId10"/>
    <p:sldLayoutId id="2147484096" r:id="rId11"/>
    <p:sldLayoutId id="2147484097" r:id="rId12"/>
    <p:sldLayoutId id="2147484098" r:id="rId13"/>
    <p:sldLayoutId id="2147484099" r:id="rId14"/>
    <p:sldLayoutId id="2147484100" r:id="rId15"/>
    <p:sldLayoutId id="2147484101" r:id="rId16"/>
    <p:sldLayoutId id="2147484102" r:id="rId17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53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54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sldNum" idx="36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27B6-D179-4C4D-941C-BA74CDFBCF8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58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58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sldNum" idx="37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748-68DD-409D-BCD7-05DF6CC30B0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6"/>
    <p:sldLayoutId id="2147484118" r:id="rId7"/>
    <p:sldLayoutId id="2147484119" r:id="rId8"/>
    <p:sldLayoutId id="2147484120" r:id="rId9"/>
    <p:sldLayoutId id="2147484121" r:id="rId10"/>
    <p:sldLayoutId id="2147484122" r:id="rId11"/>
    <p:sldLayoutId id="2147484123" r:id="rId12"/>
    <p:sldLayoutId id="2147484124" r:id="rId13"/>
    <p:sldLayoutId id="2147484125" r:id="rId14"/>
    <p:sldLayoutId id="2147484126" r:id="rId15"/>
    <p:sldLayoutId id="2147484127" r:id="rId16"/>
    <p:sldLayoutId id="2147484128" r:id="rId17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62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62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sldNum" idx="38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5AF-1EEC-4A9E-8001-F9F0504E435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6"/>
    <p:sldLayoutId id="2147484131" r:id="rId7"/>
    <p:sldLayoutId id="2147484132" r:id="rId8"/>
    <p:sldLayoutId id="2147484133" r:id="rId9"/>
    <p:sldLayoutId id="2147484134" r:id="rId10"/>
    <p:sldLayoutId id="2147484135" r:id="rId11"/>
    <p:sldLayoutId id="2147484136" r:id="rId12"/>
    <p:sldLayoutId id="2147484137" r:id="rId13"/>
    <p:sldLayoutId id="2147484138" r:id="rId14"/>
    <p:sldLayoutId id="2147484139" r:id="rId15"/>
    <p:sldLayoutId id="2147484140" r:id="rId16"/>
    <p:sldLayoutId id="2147484141" r:id="rId17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67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67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sldNum" idx="39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9FBA-3771-4680-8152-5AA06122B02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6"/>
    <p:sldLayoutId id="2147484144" r:id="rId7"/>
    <p:sldLayoutId id="2147484145" r:id="rId8"/>
    <p:sldLayoutId id="2147484146" r:id="rId9"/>
    <p:sldLayoutId id="2147484147" r:id="rId10"/>
    <p:sldLayoutId id="2147484148" r:id="rId11"/>
    <p:sldLayoutId id="2147484149" r:id="rId12"/>
    <p:sldLayoutId id="2147484150" r:id="rId13"/>
    <p:sldLayoutId id="2147484151" r:id="rId14"/>
    <p:sldLayoutId id="2147484152" r:id="rId15"/>
    <p:sldLayoutId id="2147484153" r:id="rId16"/>
    <p:sldLayoutId id="2147484154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133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135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" name="PlaceHolder 1"/>
          <p:cNvSpPr>
            <a:spLocks noGrp="1"/>
          </p:cNvSpPr>
          <p:nvPr>
            <p:ph type="sldNum" idx="4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2703-56F7-4475-8B2B-896D4108797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71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71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Num" idx="40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004-3DDE-44D5-9741-A162DB03D68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6"/>
    <p:sldLayoutId id="2147484157" r:id="rId7"/>
    <p:sldLayoutId id="2147484158" r:id="rId8"/>
    <p:sldLayoutId id="2147484159" r:id="rId9"/>
    <p:sldLayoutId id="2147484160" r:id="rId10"/>
    <p:sldLayoutId id="2147484161" r:id="rId11"/>
    <p:sldLayoutId id="2147484162" r:id="rId12"/>
    <p:sldLayoutId id="2147484163" r:id="rId13"/>
    <p:sldLayoutId id="2147484164" r:id="rId14"/>
    <p:sldLayoutId id="2147484165" r:id="rId15"/>
    <p:sldLayoutId id="2147484166" r:id="rId16"/>
    <p:sldLayoutId id="2147484167" r:id="rId17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75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76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sldNum" idx="4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B9EF-366E-4429-A475-9B902617B44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6"/>
    <p:sldLayoutId id="2147484170" r:id="rId7"/>
    <p:sldLayoutId id="2147484171" r:id="rId8"/>
    <p:sldLayoutId id="2147484172" r:id="rId9"/>
    <p:sldLayoutId id="2147484173" r:id="rId10"/>
    <p:sldLayoutId id="2147484174" r:id="rId11"/>
    <p:sldLayoutId id="2147484175" r:id="rId12"/>
    <p:sldLayoutId id="2147484176" r:id="rId13"/>
    <p:sldLayoutId id="2147484177" r:id="rId14"/>
    <p:sldLayoutId id="2147484178" r:id="rId15"/>
    <p:sldLayoutId id="2147484179" r:id="rId16"/>
    <p:sldLayoutId id="2147484180" r:id="rId17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80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80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sldNum" idx="42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6B34-588C-4546-8099-19E7BC2E039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6"/>
    <p:sldLayoutId id="2147484183" r:id="rId7"/>
    <p:sldLayoutId id="2147484184" r:id="rId8"/>
    <p:sldLayoutId id="2147484185" r:id="rId9"/>
    <p:sldLayoutId id="2147484186" r:id="rId10"/>
    <p:sldLayoutId id="2147484187" r:id="rId11"/>
    <p:sldLayoutId id="2147484188" r:id="rId12"/>
    <p:sldLayoutId id="2147484189" r:id="rId13"/>
    <p:sldLayoutId id="2147484190" r:id="rId14"/>
    <p:sldLayoutId id="2147484191" r:id="rId15"/>
    <p:sldLayoutId id="2147484192" r:id="rId16"/>
    <p:sldLayoutId id="2147484193" r:id="rId17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84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84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 type="sldNum" idx="43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842-1303-49E8-901A-F085EE03E90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6"/>
    <p:sldLayoutId id="2147484196" r:id="rId7"/>
    <p:sldLayoutId id="2147484197" r:id="rId8"/>
    <p:sldLayoutId id="2147484198" r:id="rId9"/>
    <p:sldLayoutId id="2147484199" r:id="rId10"/>
    <p:sldLayoutId id="2147484200" r:id="rId11"/>
    <p:sldLayoutId id="2147484201" r:id="rId12"/>
    <p:sldLayoutId id="2147484202" r:id="rId13"/>
    <p:sldLayoutId id="2147484203" r:id="rId14"/>
    <p:sldLayoutId id="2147484204" r:id="rId15"/>
    <p:sldLayoutId id="2147484205" r:id="rId16"/>
    <p:sldLayoutId id="2147484206" r:id="rId17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0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1891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2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1893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4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95" name="PlaceHolder 1"/>
          <p:cNvSpPr>
            <a:spLocks noGrp="1"/>
          </p:cNvSpPr>
          <p:nvPr>
            <p:ph type="sldNum" idx="44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E6CC-D832-4943-89CF-539DBC64EEF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6"/>
    <p:sldLayoutId id="2147484209" r:id="rId7"/>
    <p:sldLayoutId id="2147484210" r:id="rId8"/>
    <p:sldLayoutId id="2147484211" r:id="rId9"/>
    <p:sldLayoutId id="2147484212" r:id="rId10"/>
    <p:sldLayoutId id="2147484213" r:id="rId11"/>
    <p:sldLayoutId id="2147484214" r:id="rId12"/>
    <p:sldLayoutId id="2147484215" r:id="rId13"/>
    <p:sldLayoutId id="2147484216" r:id="rId14"/>
    <p:sldLayoutId id="2147484217" r:id="rId15"/>
    <p:sldLayoutId id="2147484218" r:id="rId16"/>
    <p:sldLayoutId id="2147484219" r:id="rId17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1933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4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1935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6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37" name="PlaceHolder 1"/>
          <p:cNvSpPr>
            <a:spLocks noGrp="1"/>
          </p:cNvSpPr>
          <p:nvPr>
            <p:ph type="sldNum" idx="45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CBE3-1547-402F-A35F-041A603C9E6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6"/>
    <p:sldLayoutId id="2147484222" r:id="rId7"/>
    <p:sldLayoutId id="2147484223" r:id="rId8"/>
    <p:sldLayoutId id="2147484224" r:id="rId9"/>
    <p:sldLayoutId id="2147484225" r:id="rId10"/>
    <p:sldLayoutId id="2147484226" r:id="rId11"/>
    <p:sldLayoutId id="2147484227" r:id="rId12"/>
    <p:sldLayoutId id="2147484228" r:id="rId13"/>
    <p:sldLayoutId id="2147484229" r:id="rId14"/>
    <p:sldLayoutId id="2147484230" r:id="rId15"/>
    <p:sldLayoutId id="2147484231" r:id="rId16"/>
    <p:sldLayoutId id="2147484232" r:id="rId17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1975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6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1977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8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79" name="PlaceHolder 1"/>
          <p:cNvSpPr>
            <a:spLocks noGrp="1"/>
          </p:cNvSpPr>
          <p:nvPr>
            <p:ph type="sldNum" idx="46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565E-4C7E-433C-B429-FCFE7FAA3B9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6"/>
    <p:sldLayoutId id="2147484235" r:id="rId7"/>
    <p:sldLayoutId id="2147484236" r:id="rId8"/>
    <p:sldLayoutId id="2147484237" r:id="rId9"/>
    <p:sldLayoutId id="2147484238" r:id="rId10"/>
    <p:sldLayoutId id="2147484239" r:id="rId11"/>
    <p:sldLayoutId id="2147484240" r:id="rId12"/>
    <p:sldLayoutId id="2147484241" r:id="rId13"/>
    <p:sldLayoutId id="2147484242" r:id="rId14"/>
    <p:sldLayoutId id="2147484243" r:id="rId15"/>
    <p:sldLayoutId id="2147484244" r:id="rId16"/>
    <p:sldLayoutId id="2147484245" r:id="rId17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6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017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8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019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0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21" name="PlaceHolder 1"/>
          <p:cNvSpPr>
            <a:spLocks noGrp="1"/>
          </p:cNvSpPr>
          <p:nvPr>
            <p:ph type="sldNum" idx="47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085-B16A-4C94-97BD-21235607765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6"/>
    <p:sldLayoutId id="2147484248" r:id="rId7"/>
    <p:sldLayoutId id="2147484249" r:id="rId8"/>
    <p:sldLayoutId id="2147484250" r:id="rId9"/>
    <p:sldLayoutId id="2147484251" r:id="rId10"/>
    <p:sldLayoutId id="2147484252" r:id="rId11"/>
    <p:sldLayoutId id="2147484253" r:id="rId12"/>
    <p:sldLayoutId id="2147484254" r:id="rId13"/>
    <p:sldLayoutId id="2147484255" r:id="rId14"/>
    <p:sldLayoutId id="2147484256" r:id="rId15"/>
    <p:sldLayoutId id="2147484257" r:id="rId16"/>
    <p:sldLayoutId id="2147484258" r:id="rId17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8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059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0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061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2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3" name="PlaceHolder 1"/>
          <p:cNvSpPr>
            <a:spLocks noGrp="1"/>
          </p:cNvSpPr>
          <p:nvPr>
            <p:ph type="sldNum" idx="48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939-6748-49BB-81D5-0747053C5CE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6"/>
    <p:sldLayoutId id="2147484261" r:id="rId7"/>
    <p:sldLayoutId id="2147484262" r:id="rId8"/>
    <p:sldLayoutId id="2147484263" r:id="rId9"/>
    <p:sldLayoutId id="2147484264" r:id="rId10"/>
    <p:sldLayoutId id="2147484265" r:id="rId11"/>
    <p:sldLayoutId id="2147484266" r:id="rId12"/>
    <p:sldLayoutId id="2147484267" r:id="rId13"/>
    <p:sldLayoutId id="2147484268" r:id="rId14"/>
    <p:sldLayoutId id="2147484269" r:id="rId15"/>
    <p:sldLayoutId id="2147484270" r:id="rId16"/>
    <p:sldLayoutId id="2147484271" r:id="rId17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0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101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2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103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4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05" name="PlaceHolder 1"/>
          <p:cNvSpPr>
            <a:spLocks noGrp="1"/>
          </p:cNvSpPr>
          <p:nvPr>
            <p:ph type="sldNum" idx="49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7FC5-7887-4698-8702-A653103DFD6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17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17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5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3B4-664D-4806-BFD5-821D03736C5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2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143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4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145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6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47" name="PlaceHolder 1"/>
          <p:cNvSpPr>
            <a:spLocks noGrp="1"/>
          </p:cNvSpPr>
          <p:nvPr>
            <p:ph type="sldNum" idx="50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2D63-19C0-434E-8475-9E6383B78B6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6"/>
    <p:sldLayoutId id="2147484287" r:id="rId7"/>
    <p:sldLayoutId id="2147484288" r:id="rId8"/>
    <p:sldLayoutId id="2147484289" r:id="rId9"/>
    <p:sldLayoutId id="2147484290" r:id="rId10"/>
    <p:sldLayoutId id="2147484291" r:id="rId11"/>
    <p:sldLayoutId id="2147484292" r:id="rId12"/>
    <p:sldLayoutId id="2147484293" r:id="rId13"/>
    <p:sldLayoutId id="2147484294" r:id="rId14"/>
    <p:sldLayoutId id="2147484295" r:id="rId15"/>
    <p:sldLayoutId id="2147484296" r:id="rId16"/>
    <p:sldLayoutId id="2147484297" r:id="rId17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4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185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6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187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8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89" name="PlaceHolder 1"/>
          <p:cNvSpPr>
            <a:spLocks noGrp="1"/>
          </p:cNvSpPr>
          <p:nvPr>
            <p:ph type="sldNum" idx="5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C86A-4320-43C2-86CF-1B8F3F343CD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6"/>
    <p:sldLayoutId id="2147484300" r:id="rId7"/>
    <p:sldLayoutId id="2147484301" r:id="rId8"/>
    <p:sldLayoutId id="2147484302" r:id="rId9"/>
    <p:sldLayoutId id="2147484303" r:id="rId10"/>
    <p:sldLayoutId id="2147484304" r:id="rId11"/>
    <p:sldLayoutId id="2147484305" r:id="rId12"/>
    <p:sldLayoutId id="2147484306" r:id="rId13"/>
    <p:sldLayoutId id="2147484307" r:id="rId14"/>
    <p:sldLayoutId id="2147484308" r:id="rId15"/>
    <p:sldLayoutId id="2147484309" r:id="rId16"/>
    <p:sldLayoutId id="2147484310" r:id="rId17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227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8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229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0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31" name="PlaceHolder 1"/>
          <p:cNvSpPr>
            <a:spLocks noGrp="1"/>
          </p:cNvSpPr>
          <p:nvPr>
            <p:ph type="sldNum" idx="52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5508-FB53-427D-ACFE-88840327576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6"/>
    <p:sldLayoutId id="2147484313" r:id="rId7"/>
    <p:sldLayoutId id="2147484314" r:id="rId8"/>
    <p:sldLayoutId id="2147484315" r:id="rId9"/>
    <p:sldLayoutId id="2147484316" r:id="rId10"/>
    <p:sldLayoutId id="2147484317" r:id="rId11"/>
    <p:sldLayoutId id="2147484318" r:id="rId12"/>
    <p:sldLayoutId id="2147484319" r:id="rId13"/>
    <p:sldLayoutId id="2147484320" r:id="rId14"/>
    <p:sldLayoutId id="2147484321" r:id="rId15"/>
    <p:sldLayoutId id="2147484322" r:id="rId16"/>
    <p:sldLayoutId id="2147484323" r:id="rId17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269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0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271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2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73" name="PlaceHolder 1"/>
          <p:cNvSpPr>
            <a:spLocks noGrp="1"/>
          </p:cNvSpPr>
          <p:nvPr>
            <p:ph type="sldNum" idx="53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B73-A9CC-411E-B986-0B908E572FE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6"/>
    <p:sldLayoutId id="2147484326" r:id="rId7"/>
    <p:sldLayoutId id="2147484327" r:id="rId8"/>
    <p:sldLayoutId id="2147484328" r:id="rId9"/>
    <p:sldLayoutId id="2147484329" r:id="rId10"/>
    <p:sldLayoutId id="2147484330" r:id="rId11"/>
    <p:sldLayoutId id="2147484331" r:id="rId12"/>
    <p:sldLayoutId id="2147484332" r:id="rId13"/>
    <p:sldLayoutId id="2147484333" r:id="rId14"/>
    <p:sldLayoutId id="2147484334" r:id="rId15"/>
    <p:sldLayoutId id="2147484335" r:id="rId16"/>
    <p:sldLayoutId id="2147484336" r:id="rId17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0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311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2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313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4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15" name="PlaceHolder 1"/>
          <p:cNvSpPr>
            <a:spLocks noGrp="1"/>
          </p:cNvSpPr>
          <p:nvPr>
            <p:ph type="sldNum" idx="54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E32D-3D25-4D1B-8816-4DEFBB1F89F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6"/>
    <p:sldLayoutId id="2147484339" r:id="rId7"/>
    <p:sldLayoutId id="2147484340" r:id="rId8"/>
    <p:sldLayoutId id="2147484341" r:id="rId9"/>
    <p:sldLayoutId id="2147484342" r:id="rId10"/>
    <p:sldLayoutId id="2147484343" r:id="rId11"/>
    <p:sldLayoutId id="2147484344" r:id="rId12"/>
    <p:sldLayoutId id="2147484345" r:id="rId13"/>
    <p:sldLayoutId id="2147484346" r:id="rId14"/>
    <p:sldLayoutId id="2147484347" r:id="rId15"/>
    <p:sldLayoutId id="2147484348" r:id="rId16"/>
    <p:sldLayoutId id="2147484349" r:id="rId17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2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2353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4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2355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6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57" name="PlaceHolder 1"/>
          <p:cNvSpPr>
            <a:spLocks noGrp="1"/>
          </p:cNvSpPr>
          <p:nvPr>
            <p:ph type="sldNum" idx="55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513A-5A65-45FB-8200-2D83070C14B5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6"/>
    <p:sldLayoutId id="2147484352" r:id="rId7"/>
    <p:sldLayoutId id="2147484353" r:id="rId8"/>
    <p:sldLayoutId id="2147484354" r:id="rId9"/>
    <p:sldLayoutId id="2147484355" r:id="rId10"/>
    <p:sldLayoutId id="2147484356" r:id="rId11"/>
    <p:sldLayoutId id="2147484357" r:id="rId12"/>
    <p:sldLayoutId id="2147484358" r:id="rId13"/>
    <p:sldLayoutId id="2147484359" r:id="rId14"/>
    <p:sldLayoutId id="2147484360" r:id="rId15"/>
    <p:sldLayoutId id="2147484361" r:id="rId16"/>
    <p:sldLayoutId id="214748436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21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221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6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1CD8-20D2-4725-93A7-4D1F35CB75A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26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2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7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9AC-2641-4090-A5C8-2DAD6312DD91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307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309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2AFB-2101-4F84-8552-98D906A2F5E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6"/>
          <p:cNvGrpSpPr/>
          <p:nvPr/>
        </p:nvGrpSpPr>
        <p:grpSpPr>
          <a:xfrm>
            <a:off x="0" y="0"/>
            <a:ext cx="9156600" cy="727200"/>
            <a:chOff x="0" y="0"/>
            <a:chExt cx="9156600" cy="727200"/>
          </a:xfrm>
        </p:grpSpPr>
        <p:pic>
          <p:nvPicPr>
            <p:cNvPr id="351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915660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2" name="Group 5"/>
            <p:cNvGrpSpPr/>
            <p:nvPr/>
          </p:nvGrpSpPr>
          <p:grpSpPr>
            <a:xfrm>
              <a:off x="468360" y="0"/>
              <a:ext cx="4632120" cy="727200"/>
              <a:chOff x="468360" y="0"/>
              <a:chExt cx="4632120" cy="727200"/>
            </a:xfrm>
          </p:grpSpPr>
          <p:pic>
            <p:nvPicPr>
              <p:cNvPr id="353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3212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760"/>
                <a:ext cx="488880" cy="29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9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335-184C-4984-9C15-442770744CB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defco@asoo.hr" TargetMode="External"/><Relationship Id="rId2" Type="http://schemas.openxmlformats.org/officeDocument/2006/relationships/hyperlink" Target="mailto:infoipa@mzos.hr" TargetMode="External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soo.hr/defco" TargetMode="External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lada.hr/aktualne_teme_i_projekti/aktualne_teme/hko_hrvatski_kvalifikacijski_okvir" TargetMode="External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Slide Number Placeholder 2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5D4A-4067-4577-8FCB-F6559A56A87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ubTitle"/>
          </p:nvPr>
        </p:nvSpPr>
        <p:spPr>
          <a:xfrm>
            <a:off x="802800" y="1125360"/>
            <a:ext cx="8340840" cy="50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Grant sh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hr-HR" sz="4000" spc="-1" strike="noStrike">
                <a:solidFill>
                  <a:srgbClr val="c00000"/>
                </a:solidFill>
                <a:latin typeface="Arial"/>
              </a:rPr>
              <a:t>Daljnji razvoj i provedba Hrvatskog kvalifikacijskog okvira”</a:t>
            </a:r>
            <a:r>
              <a:rPr b="0" lang="hr-HR" sz="4000" spc="-1" strike="noStrike">
                <a:solidFill>
                  <a:srgbClr val="333399"/>
                </a:solidFill>
                <a:latin typeface="Arial"/>
              </a:rPr>
              <a:t> (HK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Ministarstvo znanosti, obrazovanja i šp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Tahoma"/>
              </a:rPr>
              <a:t>Zagreb, 3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oguće aktivnosti projekata za LOT 1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ktivnosti informiranja, diseminacije i promocije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za provedbu principa HKO-a u području općeg obrazovanja u Hrvatskoj (primjerice pristupi u razvoju kurikuluma, osposobljavanje nastavnika, fleksibilno učenje i ključne kompetencije)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ntegracija europske dimenzije obrazovanja u kurikulume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, izrada i distribucija  nastavnih materijala , inovativnih udžbenika, audio-vizualnih/interaktivnih materijala, edukativnog softwarea, sredstava za učenje na daljinu i e-učenje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Usavršavanje i razvoj inovativnih tehnika i metoda poučavanja usmjerenih na učenik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inovacija koje direktno uključuju međusektorska pitanja (jednake mogućnosti, ravnopravnost spolova, okoliš, održivi razvoj i sl.)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Nabava potrebne opreme i materijala (do 26% od ukupno prihvatljivih troškova projekta).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E4AC-6A67-4805-AC7C-4C95C4A15D6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D12E-3AF9-4ECC-BDFC-6FFDA2CF911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90680" y="83628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bvezne aktivnosti projekta za LOT 2:</a:t>
            </a:r>
            <a:br>
              <a:rPr sz="28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Razvoj standarda kvalifikacija i/ili standarda zanimanja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Razvoj novih ili prilagodba postojećih studijskih programa (na hrvatskom jeziku) temeljenih na pravilnoj primjeni ishoda učenja, ECTS-a i studentskog opterećenja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Razvoj mjera i programa u visokom obrazovanju za obrazovanje odraslih sukladno principima HKO-a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Razvoj i provedba pravila i procedura za akreditaciju studijskih programa (sveučilišta)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Koordinacija, razvoj i provedba politika, standarda i smjernica za vrednovanje postignutih ishoda učenja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DD5A-8D93-457A-82AB-652581950BA7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90680" y="83628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Ostale moguće aktivnosti projekta za LOT2: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novih ili prilagodba postojećih kolegija i modula (na stranom jeziku) temeljenih na pravilnoj primjeni ishoda učenja, ECTS-a i studentskog opterećenja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(samo sveučilišta)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novih ili prilagodba postojećih studijskih programa (na stranom jeziku) temeljenih na pravilnoj primjeni ishoda učenja, ECTS-a i studentskog opterećenj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Trening nastavnog osoblja;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pilot sustava za priznavanje ishoda prethodnog učenja;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i provedba novih modula za e-učenje sukladno principima HKO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ili usavršavanje sustava za prikupljanje i analizu podataka nužnih za implementaciju HKO-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rocjena stvarnog studentskog radnog opterećenja i razvoj popratnih metoda i smjernic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Usavršavanje i razvoj inovativnih tehnika i metoda poučavanja usmjerenih na student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novih propisa, smjernica, priručnika i strateških dokumenata visokih učilišta koji su nužni za pravilnu provedbu HKO-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Ostale moguće aktivnosti projekta za LOT 2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ijanje inovativnih metoda procjene studenata i nastavnog osoblja;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, izrada i distribucija udžbenika, interaktivnih materijala, obrazovnih softvera, e-learning alata, na hrvatskom ili na stranim jezicima;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tudijski posjeti 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(do 10% ukupnih troškova projekta)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, treninzi, seminari na 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na nacionalnoj i europskoj razini potrebni za ostvarenje rezultata projekt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romocija stjecanja ključnih kompetencija za cjeloživotno učenje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ntegracija Europske dimenzije obrazovanja u visoko obrazovanje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Aktivnosti informiranja, diseminacije i promocije provedbe principa HKO-a u visokom obrazovanju (primjerice pravilna upotreba ishoda učenja, priznavanje prethodnog učenja, fleksibilni putevi učenja, ključne kompetencije)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inovacija koje direktno uključuju međusektorska pitanja (jednake mogućnosti, ravnopravnost spolova, okoliš, održivi razvoj i sl.)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Nabava potrebne opreme i materijala (do 26% od ukupno prihvatljivih troškova projekta).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Vaši projekti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trebaju doprinijeti ostvarenju indikatora iz Uputa za prijavitelje: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- broj razvijenih standarda kvalifikacij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- broj razvijenih studijskih programa/kurikulum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- broj razvijenih nastavnih materijal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- broj razvijenih modula na stranim jezicim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1 projekt može sadržavati aktivnosti iz samo jednog lot-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1 prijavitelj može dostaviti samo 1 projektni prijedlog  po lot-u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prijavitelj može sudjelovati kao partner na drugom projektu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Vaši projekti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ok za podnošenje prijava (concept note): 7.11.2011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Trajanje pojedinih projekata: 10-18 mjeseci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eličina grantova: 50 000 eur – 400 000 eu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spored informativnih radionica objavljen na: 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ttp://www.aso.hr/defco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969B-1E71-43FE-8DC2-2128570F8833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/>
          </p:nvPr>
        </p:nvSpPr>
        <p:spPr>
          <a:xfrm>
            <a:off x="457200" y="9871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djel za financiranje i ugovaranje EU programa</a:t>
            </a: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 (ASOO DEFCO) unutar Agencije za strukovno obrazovanje i obrazovanje odrasli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E-mail: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fco@asoo.h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Ministarstvo znanosti, obrazovanja i šport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E-mail: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foipa@mzos.h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Grant-s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Direktno financiranje neprofitne aktivnosti krajnjeg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Na zadanu temu iz natječaja potencijalni prijavitelji razvijaju projektni prijed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Krajnji korisnik uvijek sufinancira projekt (za ovu grant-shemu = 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Upute za prijavitelje -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soo.hr/defco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Arial"/>
              </a:rPr>
              <a:t>Hrvatski kvalifikacijski okv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Instrument za koordinaciju i povezivanje svih dijelova kvalifikacijskog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Uvjet za uređenje sustava cjeloživotnog u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Zadaća: </a:t>
            </a:r>
            <a:r>
              <a:rPr b="1" lang="hr-HR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 povezati ishode učenja obrazovnih instituci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hr-HR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postaviti jasne kriterije kvalitete stjecanja kvalifikaci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 omogućiti vrednovanje ishoda učen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Značaj: </a:t>
            </a:r>
            <a:r>
              <a:rPr b="1" lang="hr-HR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 povezivanje potreba tržišta rada i obraz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lang="hr-HR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3399"/>
                </a:solidFill>
                <a:latin typeface="Arial"/>
              </a:rPr>
              <a:t> priznavanje kvalifi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99"/>
                </a:solidFill>
                <a:latin typeface="Arial"/>
              </a:rPr>
              <a:t>Ključni pojmov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3399"/>
                </a:solidFill>
                <a:latin typeface="Arial"/>
              </a:rPr>
              <a:t>ishodi učenja/jedinice ishoda učenja, standard kvalifikacij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3399"/>
                </a:solidFill>
                <a:latin typeface="Arial"/>
              </a:rPr>
              <a:t>osiguranje kvalitete, formalno/neformalno/informalno uč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Tijek razvoja HKO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2006. započela izrada HK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2007. Polazne osnove HK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             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Povjerenstvo za razvoj     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HKO-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2008. Operativni tim za razvoj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HKO-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2009. Pojmovnik HK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Zaključci Vlade- prihvaćena metodolo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2010. Povjerenstvo i Stručni tim za provedbu HK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00360" y="1483920"/>
            <a:ext cx="41749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Provedba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Potrebna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snažnija povezanost part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bolja koordinaci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uspostavljena struktura proved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TextBox 1"/>
          <p:cNvSpPr/>
          <p:nvPr/>
        </p:nvSpPr>
        <p:spPr>
          <a:xfrm>
            <a:off x="900000" y="5589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lada.hr/aktualne_teme_i_projekti/aktualne_teme/hko_hrvatski_kvalifikacijski_okvi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AutoShape 13"/>
          <p:cNvSpPr/>
          <p:nvPr/>
        </p:nvSpPr>
        <p:spPr>
          <a:xfrm>
            <a:off x="4500720" y="1700280"/>
            <a:ext cx="431640" cy="287280"/>
          </a:xfrm>
          <a:custGeom>
            <a:avLst/>
            <a:gdLst>
              <a:gd name="textAreaLeft" fmla="*/ 0 w 431640"/>
              <a:gd name="textAreaRight" fmla="*/ 43200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"/>
          <p:cNvSpPr txBox="1"/>
          <p:nvPr/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Cilj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Pružiti potporu provedbi Hrvatskog kvalifikacijskog okvira kroz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razvoj sustava i kvalifikacija u općem i visokom obrazovanju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razvoj kurikuluma/studijskih programa temeljenih na ishodima učenja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promicanje učenja usmjerenog na učenika/studenta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Struktura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T1: Provedba HKO-a u općem obrazovanju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T2: Provedba HKO-a   u visokom obrazovanju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Prioriteti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T 1: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školskih kurikuluma u općem obrazovanju temeljenih na   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shodima učenja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T 2: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standarda kvalifikacija i/ili razvoj kolegija,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modula, studijskih programa na stranim jezicima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3" name="Slide Number Placeholder 2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2CF-2559-4532-A755-772FA6A35A9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tangle 5"/>
          <p:cNvSpPr/>
          <p:nvPr/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grant shema </a:t>
            </a:r>
            <a:r>
              <a:rPr b="0" i="1" lang="hr-HR" sz="3200" spc="-1" strike="noStrike">
                <a:solidFill>
                  <a:srgbClr val="c00000"/>
                </a:solidFill>
                <a:latin typeface="Arial"/>
              </a:rPr>
              <a:t>Daljnji razvoj i provedba HKO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Financijska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alokacija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Ukupna sredstva:  4.400.000 eur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Za lot 1: 2,200,000 eu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Za lot 2: 2,200,000 eu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Minimalna veličina projekata iznosi 50,000 eura, a maksimalna 400,000 eur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Maksimalni udio financiranja projekta iz granta iznosi 95% od ukupnih prihvatljivih troškova aktivnosti, a minimalni 60%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7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66DD-6093-450D-B10D-963E0D62E43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3"/>
          <p:cNvSpPr/>
          <p:nvPr/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ogući prijavitelji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LOT1: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stanove općeg obrazovanja (osnovne škole, gimnazije)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visoka učilišta koja provode obrazovanje nastavnika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javne institucije zadužene za razvoj i provedbu politika obrazovanja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nstituti za istraživanje u području obrazovanja i usavršavanja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jedinice lokalne uprave i regionalne samouprave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LOT2: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visoka učilišta </a:t>
            </a: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(VAŽNO: posebni uvjeti za fakultete i akademije)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javne institucije zadužene za razvoj i provedbu politika obrazovanja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nstituti za istraživanje u području obrazovanja i usavršavanja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jedinice lokalne uprave i regionalne samouprave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4BB-CD22-4D1D-82F1-C142D33DCA7B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ogući partneri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ste institucije kao i prijavitelji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edškolske ustanov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stanove za obrazovanje odraslih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trukovne škol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straživački instituti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evladine organizacije u području obrazovanja i usavršavanja (uključujući studentske organizacij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adležna tijela državne uprave za regulirane profesij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Zadrug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c00000"/>
                </a:solidFill>
                <a:latin typeface="Arial"/>
              </a:rPr>
              <a:t>! Specifični uvjeti partnerstva za LOT 1 ako su prijavitelji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- visoka učilišta koja provode obrazovanje nastavnika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- instituti za istraživanje u području obrazovanja i usavršavanja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FBC4-6C72-4BE7-88E5-E8022BC3D79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oguće aktivnosti projekata za LOT 1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dionice i tečajevi za nastavnike u području razvoja i provedbe kurikuluma i ili metoda pisanja ishoda učenja u općem obrazovanju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školskih kurikuluma za opće obrazovanje temeljenih na ishodima učenja, uključujući razvoj ključnih kompetencij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tudijski posjeti (do 10% ukupnih troškova projekta), tečajevi, seminari na nacionalnoj i europskoj razini vezani uz razmjenu iskustava i primjera dobre prakse na teme: kvalifikacije, kurikulumi i sl.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otpora suradnji obrazovnih institucija i obrazovnih institucija i lokalne uprave i regionalne samouprave radi koordiniranog pristupa pravilnoj provedbi HKO-a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stale aktivnosti potrebne za razvoj kurikuluma u općem obrazovanju (procjena radnog opterećenja učenika, prema HKO-u itd)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voj inovativnih metoda praćenja i procjene učenika i nastavnika;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7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39C3-63EF-4F51-9318-2D3330AB56F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4:26:04Z</dcterms:created>
  <dc:creator>%username%</dc:creator>
  <dc:description/>
  <dc:language>en-US</dc:language>
  <cp:lastModifiedBy>%username%</cp:lastModifiedBy>
  <cp:lastPrinted>2011-10-03T07:45:10Z</cp:lastPrinted>
  <dcterms:modified xsi:type="dcterms:W3CDTF">2011-10-05T07:34:14Z</dcterms:modified>
  <cp:revision>106</cp:revision>
  <dc:subject/>
  <dc:title>PowerPoint Presentation</dc:title>
</cp:coreProperties>
</file>