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3730F-A7F5-4343-BCA8-D773C7D28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C2558-22EF-4E9B-A7AF-DF8734203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F10DD-C6AB-427F-AF96-B327CE158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232B7-945C-4B61-B289-9D7ADC4487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4EBF8-595E-41EA-A409-2267F74A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1C5C0-707E-4ED0-A963-BA14C021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C95DE-2691-4E74-B387-2E241A51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AF0C2-A865-4CE0-A07F-4232E7A2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F8B92-07BA-4E3C-9687-058545F5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93B29-6F09-4D31-928F-17625829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DD093-377B-4EBA-BB52-753DA2E3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C956A-51AB-40C5-BC6A-A3E47FF3F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BC1DE-DB06-498B-A415-0EFBA40D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12381-83C5-4722-A7C0-5C188EF2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E272A-3054-47A0-AD2B-8C1C6FBA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E0C81-4BF7-4F23-A393-40A2A977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263A7-1239-45D7-8574-B92BC338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BBB82-9B36-4A09-898D-8FE714441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28709-5138-41AE-8399-41B2D6913D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37DC7-8C02-4F07-B82E-E15D0CE0D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88D09-B71F-429B-BCED-6CCA22C71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5CA07-9435-47FE-B0AA-3335ACBD4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0ABFB-03F9-43DE-9B5E-67635AFAA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379E9-FFD9-40A8-87C7-041B8B55B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DC5F-D5FF-44DD-8D4F-1047147E4905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"/>
          <p:cNvPicPr/>
          <p:nvPr/>
        </p:nvPicPr>
        <p:blipFill>
          <a:blip r:embed="rId2"/>
          <a:stretch/>
        </p:blipFill>
        <p:spPr>
          <a:xfrm>
            <a:off x="0" y="428760"/>
            <a:ext cx="9144000" cy="6000480"/>
          </a:xfrm>
          <a:prstGeom prst="rect">
            <a:avLst/>
          </a:prstGeom>
          <a:ln w="0">
            <a:noFill/>
          </a:ln>
        </p:spPr>
      </p:pic>
      <p:sp>
        <p:nvSpPr>
          <p:cNvPr id="40" name="Date Placeholder 3"/>
          <p:cNvSpPr/>
          <p:nvPr/>
        </p:nvSpPr>
        <p:spPr>
          <a:xfrm>
            <a:off x="45720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Slide Number Placeholder 5"/>
          <p:cNvSpPr/>
          <p:nvPr/>
        </p:nvSpPr>
        <p:spPr>
          <a:xfrm>
            <a:off x="7858080" y="6500880"/>
            <a:ext cx="9190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FC48-2EB2-4248-8D93-F27EEC5495B1}" type="slidenum">
              <a:rPr b="0" lang="hr-HR" sz="1000" spc="-1" strike="noStrike">
                <a:solidFill>
                  <a:srgbClr val="00008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2" descr="ZnakHR.png"/>
          <p:cNvPicPr/>
          <p:nvPr/>
        </p:nvPicPr>
        <p:blipFill>
          <a:blip r:embed="rId3"/>
          <a:stretch/>
        </p:blipFill>
        <p:spPr>
          <a:xfrm>
            <a:off x="8001000" y="285840"/>
            <a:ext cx="882720" cy="873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europa.eu/abc/symbols/emblem/images/europ_flag/jaune.jpg"/>
          <p:cNvPicPr/>
          <p:nvPr/>
        </p:nvPicPr>
        <p:blipFill>
          <a:blip r:embed="rId4"/>
          <a:stretch/>
        </p:blipFill>
        <p:spPr>
          <a:xfrm>
            <a:off x="409680" y="428760"/>
            <a:ext cx="84132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570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2987280" y="5949720"/>
            <a:ext cx="28954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0BC6-C2AC-4DBE-BC77-1E24EDF0E747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svijet-medija.hr/" TargetMode="External"/><Relationship Id="rId2" Type="http://schemas.openxmlformats.org/officeDocument/2006/relationships/hyperlink" Target="http://www.nabava.net/" TargetMode="External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  <a:ea typeface="Calibri"/>
              </a:rPr>
              <a:t>Uvod u proračun EU projekata </a:t>
            </a:r>
            <a:br>
              <a:rPr sz="3600"/>
            </a:br>
            <a:r>
              <a:rPr b="1" lang="hr-HR" sz="3600" spc="-1" strike="noStrike">
                <a:solidFill>
                  <a:srgbClr val="000000"/>
                </a:solidFill>
                <a:latin typeface="Calibri"/>
                <a:ea typeface="Calibri"/>
              </a:rPr>
              <a:t>Izrada okvirnog proračuna projekta 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i="1" lang="hr-HR" sz="3600" spc="-1" strike="noStrike">
                <a:solidFill>
                  <a:srgbClr val="000000"/>
                </a:solidFill>
                <a:latin typeface="Calibri"/>
                <a:ea typeface="Calibri"/>
              </a:rPr>
              <a:t>Budget of the Action</a:t>
            </a:r>
            <a:r>
              <a:rPr b="0" lang="hr-HR" sz="3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Neprihvatljivi troškov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porezi, uključujući PDV (osim ako njihov povrat nije moguć ni na koji način i ako se utvrdi da ih snosi krajnji korisnik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carinske i uvozne pristojbe, ili bilo koje druge nakn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kupovina, zakup ili leasing zemljišta i postojećih zgrada  (osim ako je najam ili leasing isključivo vezan uz razdoblje sufinanciranja projekta te ima prednost pred drugim rješenjima u smislu isplativosti – „best value for money”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novčane kazne, financijske kazne i parnični troškov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operativni troškovi (osim ako se odnose isključivo na razdoblje sufinanciranja projekt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rabljena opr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Neprihvatljivi troškov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ankarske naknade, osim troškova povezanih s bankovnim jamstvom ili usporedivim jamstvom koje polaže korisnik nepovratnih sredst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roškovi pretvaranja, naknade i gubici po tečajnim razlikama vezani uz bilo koji devizni račun u eurima kao i drugi čisto financijski izd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prinosi u nat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roškovi održavanja i najma, osim ako se troškovi najma odnose isključivo na razdoblje sufinanciranja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roškovi amortizacije infrastruk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Neprihvatljivi troškov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ugovi i troškovi dug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ičuva za slučaj gubitaka ili potencijalna buduća dug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ugovane ka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škovi koje je prijavio korisnik, a koje pokriva drugi projekt ili radni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redit trećim stran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Obrazac proračuna sadrži 3 dijela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3 lista u excel-u)</a:t>
            </a: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List 1: detaljni proračun (po godina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List 2: obrazloženje svrhe troška i nač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formiranja (količina, cij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List 3: izvori financiranja (vlastiti izvor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bespovratna sredstva i dr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Obrazac proračuna – List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6 glavnih kategorija troškova („budget headings”) i podkategorije (2. raz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Glavne kategorije i podkategorije se ne smiju mijenj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ve proračunske stavke moraju biti numeri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Potrebno je napraviti pod-redove za svaku proračunsku stavku gdje ima više različitih nabava, np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3.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Opr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3.1.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Kupovina ili najam voz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3.2 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Namještaj, kompjutorska opr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5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3.2.1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Prijenosno računa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5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3.2.2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 Pis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5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3.2.3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Stolno računa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Proračunska poglavlja – List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68360" y="1844640"/>
          <a:ext cx="8351640" cy="409752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 marL="34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ško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040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Ljudski potencij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Putni troško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Oprema i potrepšt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Lokalni u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Ostali troškovi, uslu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Osta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 Međusuma izravnih prihvatljivih troškova projekta (1-6) (bez porez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6224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Pričuva za nepredviđene situac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Ukupni izravni prihvatljivi troškovi projekta (7+ 8) (bez porez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6188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 Administrativni troško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Ukupni prihvatljivi troškovi (9+10) (bez porez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Porez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 Ukupni prihvatljivi/prihvaćeni</a:t>
                      </a:r>
                      <a:r>
                        <a:rPr b="1" lang="hr-HR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škovi projekta (11+1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Proračun - List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1. Ljudski potencij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.1. Plaće za RH osoblje (tehničko i administrativn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.2. Plaće za inozemno osoblje (tehn. i admin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.3. Dnevnice za putovanja (prema posebnom Pravilniku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.3.1. U inozemstvo (ovisno o zemlj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.3.2. Lokalno - temeljem izračuna trška smještaja + 170 kn (dnevnica po hrvatskom zakon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.3.3. Sudionika seminara/konferen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8360" y="1773360"/>
          <a:ext cx="8351640" cy="4535280"/>
        </p:xfrm>
        <a:graphic>
          <a:graphicData uri="http://schemas.openxmlformats.org/drawingml/2006/table">
            <a:tbl>
              <a:tblPr/>
              <a:tblGrid>
                <a:gridCol w="4657680"/>
                <a:gridCol w="888840"/>
                <a:gridCol w="889200"/>
                <a:gridCol w="887400"/>
                <a:gridCol w="1028520"/>
              </a:tblGrid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di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ičina jedi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jena jedinice </a:t>
                      </a:r>
                      <a:br>
                        <a:rPr sz="1400"/>
                      </a:b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 EU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škovi</a:t>
                      </a:r>
                      <a:br>
                        <a:rPr sz="1400"/>
                      </a:b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 EU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4272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Ljudski potencij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 Plaće (bruto plaće uključujući doprinose i ostale povezane troškove, lokalno osoblje)</a:t>
                      </a:r>
                      <a:r>
                        <a:rPr b="0" lang="hr-HR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1 Tehničko osobl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jeseč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2 Administrativno osoblje/osoblje za potp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jeseč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 Plaće (bruto plaće uključujući doprinose i ostale povezane troškove, međunarodno osoblj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jeseč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 Dnevnice za misije/putovanja</a:t>
                      </a:r>
                      <a:r>
                        <a:rPr b="0" lang="hr-HR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1 U inozemstvo (osoblje dodijeljeno projektu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 da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2 Lokalno (osoblje dodijeljeno projektu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 da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3 Sudionici seminara/konferen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 da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 gridSpan="5"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vi-V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đusuma za ljudske potencij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0" name="TextBox 1"/>
          <p:cNvSpPr/>
          <p:nvPr/>
        </p:nvSpPr>
        <p:spPr>
          <a:xfrm>
            <a:off x="468360" y="1089000"/>
            <a:ext cx="38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Proračun - List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Proračun - List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Primj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trebno je izračunati plaću osobe angažirane na projektu jedan puta tjedno ili 8 sati mjesečno (savjetovanje) tijekom 12 mj. trajanja projek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8040" y="3481560"/>
          <a:ext cx="8209080" cy="2016000"/>
        </p:xfrm>
        <a:graphic>
          <a:graphicData uri="http://schemas.openxmlformats.org/drawingml/2006/table">
            <a:tbl>
              <a:tblPr/>
              <a:tblGrid>
                <a:gridCol w="2052720"/>
                <a:gridCol w="2052360"/>
                <a:gridCol w="2051280"/>
                <a:gridCol w="2052720"/>
              </a:tblGrid>
              <a:tr h="1326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Jedinica mjere 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r.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of un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j jedinica mjer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t rate (in EU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Jedinična cijena (u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UR)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s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EU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Trošak (u EUR)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9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je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24" name="TextBox 5"/>
          <p:cNvSpPr/>
          <p:nvPr/>
        </p:nvSpPr>
        <p:spPr>
          <a:xfrm>
            <a:off x="611280" y="5805360"/>
            <a:ext cx="59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12 mj x (4 dana / 22 dana)  = 12 mj x 0,1818 = 2,18 m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1. Ljudski potencijali – Savje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arem jedna osoba treba raditi najmanje 30% ili više radnog vremena na poslovima upravljanja projektom ili koordiniranja projektnih aktivnosti i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ve pozicije treba pojedinačno navesti (grupiranje nije dozvoljeno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reba voditi računa jesu li navedene plaće i obračun satnice točne te jesu li obračunati svi troškovi za predviđeno razdoblje (npr. eventualne obveze po kolektivnim ugovorima o povećanju plaća i sl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ovoj kategoriji proračuna isključivo se dopušta zapošljavanje temeljem ugovora o radu ili isplate temeljem ugovora o djel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Proračun projekta predstavl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financijski plan projekta (plan troškova i prihoda za vrijeme provedbe projek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nstrument za ocjenu (odnos troškova i učinka), praćenje i kontrolu projek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edmet detaljne dorade tijekom procesa tzv. čišćenja proračuna i temelj za potpisivanje ugovora o bespovrtanim sredstvima (gran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Proračun se izrađuje na temelju predloška proračuna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koji je objavljen u Pozivu na natječaj (Aneks B, tablica u excelu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2. Putni troško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2.1. Međunarodna putov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2.2. Lokalna putov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zvoljena su sva prijevozna sredstv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roškovi za korištenje privatnih/službenih vozila: odobrava se 0,25 EUR/km (ovaj iznos uključuje sve troškove: gorivo, cestarinu, tunelarinu, trajekt, amortizaciju vozil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42800" y="1897200"/>
          <a:ext cx="8352000" cy="1892160"/>
        </p:xfrm>
        <a:graphic>
          <a:graphicData uri="http://schemas.openxmlformats.org/drawingml/2006/table">
            <a:tbl>
              <a:tblPr/>
              <a:tblGrid>
                <a:gridCol w="4657680"/>
                <a:gridCol w="889200"/>
                <a:gridCol w="888840"/>
                <a:gridCol w="887400"/>
                <a:gridCol w="1028880"/>
              </a:tblGrid>
              <a:tr h="86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di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ičina jedi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jena jedinice </a:t>
                      </a:r>
                      <a:br>
                        <a:rPr sz="1400"/>
                      </a:b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 EU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škovi</a:t>
                      </a:r>
                      <a:br>
                        <a:rPr sz="1400"/>
                      </a:b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 EU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Putni troškovi</a:t>
                      </a:r>
                      <a:r>
                        <a:rPr b="1" lang="hr-HR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 Putovanja u inozemst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 le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 Lokalni prijev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jeseč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 gridSpan="5"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vi-V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đusuma za putne trošk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TextBox 1"/>
          <p:cNvSpPr/>
          <p:nvPr/>
        </p:nvSpPr>
        <p:spPr>
          <a:xfrm>
            <a:off x="468360" y="3789360"/>
            <a:ext cx="8351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Savje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pripremiti detaljne specifikacije (plan putovanja, u okviru koje aktivnosti, koliko osoba i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studijska putovanja – ukoliko se namjerava angažirati agencija, onda se agencija mora predstaviti u okviru proračunskog poglavlja </a:t>
            </a:r>
            <a:r>
              <a:rPr b="0" i="1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5. Drugi troškovi, usluge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450720" y="1162080"/>
            <a:ext cx="433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2. Putni troško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3. Oprema i potrepš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.1. Kupnja ili najam vozi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.2. Namještaj, računalna opre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ruga oprema ili dijelovi potrebni za provedbu projekta (odnosno ostvarenje svrhe projekt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000000"/>
                </a:solidFill>
                <a:latin typeface="Tahoma"/>
                <a:ea typeface="Tahoma"/>
              </a:rPr>
              <a:t>Kupnja specijalizirane opreme i namještaja kao i manji zahvati u smislu adaptacije prostora, limitirani su na maksimalni iznos ukupnih dopuštenih troškova projekta (u ovom pozivu na natječaj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4076640"/>
          <a:ext cx="7848360" cy="2395440"/>
        </p:xfrm>
        <a:graphic>
          <a:graphicData uri="http://schemas.openxmlformats.org/drawingml/2006/table">
            <a:tbl>
              <a:tblPr/>
              <a:tblGrid>
                <a:gridCol w="4376520"/>
                <a:gridCol w="835200"/>
                <a:gridCol w="834840"/>
                <a:gridCol w="835200"/>
                <a:gridCol w="966600"/>
              </a:tblGrid>
              <a:tr h="774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Jedi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oličina jedi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ijena jedinice </a:t>
                      </a:r>
                      <a:br>
                        <a:rPr sz="1400"/>
                      </a:b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u EU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oškovi</a:t>
                      </a:r>
                      <a:br>
                        <a:rPr sz="1400"/>
                      </a:b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u EU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3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 Oprema i potrepštine</a:t>
                      </a:r>
                      <a:r>
                        <a:rPr b="1" lang="hr-HR" sz="14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1 Kupovina ili najam vozi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o vozi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2 Namještaj, računalna opre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o ko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3 Strojevi, alati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4 Rezervni dijelovi/oprema za strojeve, a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5 Ostalo (navedit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 gridSpan="5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eđusuma za opremu i potrepšt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3. Oprema – Savje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ipremiti detaljni izlist svakog komada ili seta opre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oditi računa o važnosti podrijetla opreme (cijena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ažiti ponude za opremu prilikom pripreme prijedloga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jeriti troškove dostave, montaže i edukacije prilikom puštanja opreme u 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jeriti troškove održavanja, servisiranja i rezervnih dijelo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4. Lokalni/projektni u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  <a:ea typeface="Tahoma"/>
              </a:rPr>
              <a:t>Ovi troškovi (troškovi službenog vozila, najam prostora, potrošni uredski materijal i dr. usluge kao npr. el. energija, telefon i sl.) odnose se isključivo na otvaranje i rad ureda radi provedbe projekta (ukoliko npr. unajmljujemo prostor u kojem će biti projektni ured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  <a:ea typeface="Tahoma"/>
              </a:rPr>
              <a:t>Ovdje ne možemo tražiti pokriće troškova postojećeg ureda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  <a:ea typeface="Tahoma"/>
              </a:rPr>
              <a:t>Različiti troškovi režija i administrativni troškovi navode se u paušalnom iznosu pod stavkom </a:t>
            </a:r>
            <a:r>
              <a:rPr b="0" i="1" lang="hr-HR" sz="2600" spc="-1" strike="noStrike">
                <a:solidFill>
                  <a:srgbClr val="000000"/>
                </a:solidFill>
                <a:latin typeface="Tahoma"/>
                <a:ea typeface="Tahoma"/>
              </a:rPr>
              <a:t>10. Administrativni troškov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5. Ostali troškovi/uslu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troškovi vezani uz konkretnu provedbu projektnih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troškovi ugovaranja usluga, organiziranja događanja i s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podkategorij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5.1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Publik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5.2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Studije, istraživ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5.3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Revizi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5.4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Evalu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5.5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Prevođ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5.6 Financi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jske uslu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trošak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ank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ovne garancije itd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5.7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Troškovi konferencija/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eminar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5.8.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Aktivnosti vezane uz prepoznatljivost projekta i EU sufinanci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5. Ostali troškovi/usluge – Primj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5.7.1. Radionica o neverbalnoj komunikacij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5.7.1.1. Najam prostora za radionic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  <a:ea typeface="Tahoma"/>
              </a:rPr>
              <a:t>5.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7.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  <a:ea typeface="Tahoma"/>
              </a:rPr>
              <a:t>. Rad stru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č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  <a:ea typeface="Tahoma"/>
              </a:rPr>
              <a:t>njaka (2 dana pripreme, 1 d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  <a:ea typeface="Tahoma"/>
              </a:rPr>
              <a:t>radionice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, 1 dan izvješće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5.7.1.3. Preslike radnih materijala (15 stranica/primjer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5.7.1.4. Osvježenja u pauzama i ruč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i d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6. Ostal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Određeni troškovi koji se ne mogu prikazati kroz druge stavk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Najčešće su to troškovi za npr. građevinske radove (uređenje prostora, radionica i sl.), postavljanje određenih virtualnih mreža i s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Ukoliko neki trošak navedete pod 6., a on treba biti iskazan pod 5., zbog toga nećete biti “kažnjeni” (usmjerit će vas se da to ispravit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7. – 13. Ostale stavke prorač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ahoma"/>
                <a:ea typeface="Tahoma"/>
              </a:rPr>
              <a:t>STAVKA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Tahoma"/>
                <a:ea typeface="Tahoma"/>
              </a:rPr>
              <a:t>ZNAČENJE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7.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Podzbroj izravnih dopuštenih troškova (1+6)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8.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Nepredvidivi troškovi (max 5% od stavke 7)</a:t>
            </a:r>
            <a:r>
              <a:rPr b="1" lang="hr-HR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9.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Zbroj izravnih dopuštenih troškova (7+8)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10.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Administrativni troškovi (max 7% od stavke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11.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Ukupno dopušteni troškovi (9+10) bez poreza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12.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Porezi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13.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Ukupno dopušteni troškovi (11+12)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Tahoma"/>
              </a:rPr>
              <a:t>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1" lang="hr-HR" sz="1200" spc="-1" strike="noStrike">
                <a:solidFill>
                  <a:srgbClr val="000000"/>
                </a:solidFill>
                <a:latin typeface="Tahoma"/>
                <a:ea typeface="Tahoma"/>
              </a:rPr>
              <a:t> ... treba posebno odobrenje donatora da bi se sredstva mogla troši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1" lang="hr-HR" sz="1200" spc="-1" strike="noStrike">
                <a:solidFill>
                  <a:srgbClr val="000000"/>
                </a:solidFill>
                <a:latin typeface="Tahoma"/>
                <a:ea typeface="Tahoma"/>
              </a:rPr>
              <a:t> ... Samo u slučaju ako prijavitelj i/ili partneri dokažu da ne mogu „povratiti” po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Lis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treba jasno pojasniti svaki troša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lijevi stupac tablice („</a:t>
            </a:r>
            <a:r>
              <a:rPr b="0" i="1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Expenses”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) mora biti identičan istom takvom stupcu u Listu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srednji stupac tablice („</a:t>
            </a:r>
            <a:r>
              <a:rPr b="0" i="1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Clarification of a budget line”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) predstavlja opis troška (pojasniti potrebu svakog troška) i uvijek se treba pozvati na naziv i broj aktivnosti iz prijavnog obras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desni stupac tablice („</a:t>
            </a:r>
            <a:r>
              <a:rPr b="0" i="1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Justification of expenses/ estimation”)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 predstavlja obrazloženje formiranja cijene (formula za izračun određenog troška) i uvijek se treba pozvati na konkretne izvore cijena (npr. obračunska lista plaće, p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nuda dobavljača ili pružatelja usluge, cjenik s Interneta itd., a u slučaju većih usluga/radova/opreme sugerira se potražiti 2-3 ponu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Opća pravila o proračun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vi troškovi moraju biti prihvatlj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vi troškovi moraju biti opravd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vi troškovi se moraju odnositi na pro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ajviši i najniži iznos bespovratnih sredstava se mora poštiva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avila o sufinanciranju se moraju pošti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doprinosi u naravi nisu prihvatljivi troškov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edložak proračuna se ne smije mijenj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List 2 - Opravdanje traženih troško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</a:t>
            </a:r>
            <a:r>
              <a:rPr b="1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Primjer: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rojekt traje 12 mjese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11280" y="2349360"/>
          <a:ext cx="8208720" cy="3888000"/>
        </p:xfrm>
        <a:graphic>
          <a:graphicData uri="http://schemas.openxmlformats.org/drawingml/2006/table">
            <a:tbl>
              <a:tblPr/>
              <a:tblGrid>
                <a:gridCol w="2016000"/>
                <a:gridCol w="3097080"/>
                <a:gridCol w="3095640"/>
              </a:tblGrid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is troškov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jašnjenje traženih troškov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avdanje izračuna troška </a:t>
                      </a:r>
                      <a:r>
                        <a:rPr b="0" lang="hr-H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272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2.2 Računovođ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ojeći djelatnik partnerske organizacije koji će vršiti plaćanja i knjiženje troškova u projektu. Bit će uposlen na projektu cca 25% radnog vremena ili 3 mj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upni trošak plaće (prema obračunskoj listi plaće) iznosi 1.000 EUR/mj, a uz 25% rada na projektu, trošak plaće iznos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 EUR/mj x 12 mj x 0,25 x = 3.000 EUR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843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.1 Prijenosn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čuna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jenosno računalo jačih karakteristika „xyz” je potrebno za provedbu Aktivnosti: 2.3.1 Istraživanje i obrada podataka; 2.3.6 Prezentacije na tere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EUR/kom predstavlja prosječnu tržišnu cijenu prema </a:t>
                      </a:r>
                      <a:r>
                        <a:rPr b="0" lang="hr-HR" sz="16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www.svijet-medija.hr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 </a:t>
                      </a:r>
                      <a:r>
                        <a:rPr b="0" lang="hr-HR" sz="16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"/>
                        </a:rPr>
                        <a:t>www.nabava.net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List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tablica u kojoj se navode izvori financiranja projek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33cc"/>
                </a:solidFill>
                <a:latin typeface="Tahoma"/>
                <a:ea typeface="Tahoma"/>
              </a:rPr>
              <a:t>„</a:t>
            </a:r>
            <a:r>
              <a:rPr b="0" i="1" lang="en-US" sz="2200" spc="-1" strike="noStrike">
                <a:solidFill>
                  <a:srgbClr val="0033cc"/>
                </a:solidFill>
                <a:latin typeface="Tahoma"/>
                <a:ea typeface="Tahoma"/>
              </a:rPr>
              <a:t>EU/EDF  contribution sought in this application (A)</a:t>
            </a:r>
            <a:r>
              <a:rPr b="0" i="1" lang="hr-HR" sz="2200" spc="-1" strike="noStrike">
                <a:solidFill>
                  <a:srgbClr val="0033cc"/>
                </a:solidFill>
                <a:latin typeface="Tahoma"/>
                <a:ea typeface="Tahoma"/>
              </a:rPr>
              <a:t>” 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- navodi se traženi iznos bespovratnih sredstava (grant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33cc"/>
                </a:solidFill>
                <a:latin typeface="Tahoma"/>
                <a:ea typeface="Tahoma"/>
              </a:rPr>
              <a:t>„</a:t>
            </a:r>
            <a:r>
              <a:rPr b="0" i="1" lang="hr-HR" sz="2200" spc="-1" strike="noStrike">
                <a:solidFill>
                  <a:srgbClr val="0033cc"/>
                </a:solidFill>
                <a:latin typeface="Tahoma"/>
                <a:ea typeface="Tahoma"/>
              </a:rPr>
              <a:t>Other contributions (Applicant, other EU Funds or EU Member States etc)”</a:t>
            </a:r>
            <a:r>
              <a:rPr b="0" i="1" lang="en-GB" sz="22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– 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navodi se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znos sufinanciranja aplikanta i partnera (ako ih ima) i svakoga treba navesti posebno s iznosom i postotkom sufinanciranja (dodati redove ako treb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33cc"/>
                </a:solidFill>
                <a:latin typeface="Tahoma"/>
                <a:ea typeface="Tahoma"/>
              </a:rPr>
              <a:t>„</a:t>
            </a:r>
            <a:r>
              <a:rPr b="0" i="1" lang="en-US" sz="2200" spc="-1" strike="noStrike">
                <a:solidFill>
                  <a:srgbClr val="0033cc"/>
                </a:solidFill>
                <a:latin typeface="Tahoma"/>
                <a:ea typeface="Tahoma"/>
              </a:rPr>
              <a:t>Estimated TOTAL ELIGIBLE COSTS (B)</a:t>
            </a:r>
            <a:r>
              <a:rPr b="0" i="1" lang="hr-HR" sz="2200" spc="-1" strike="noStrike">
                <a:solidFill>
                  <a:srgbClr val="0033cc"/>
                </a:solidFill>
                <a:latin typeface="Tahoma"/>
                <a:ea typeface="Tahoma"/>
              </a:rPr>
              <a:t>” 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= ukupni prihvatljivi troškovi (iz Lista 1, red </a:t>
            </a:r>
            <a:r>
              <a:rPr b="0" i="1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„11. Total eligible costs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33cc"/>
                </a:solidFill>
                <a:latin typeface="Tahoma"/>
                <a:ea typeface="Tahoma"/>
              </a:rPr>
              <a:t>„</a:t>
            </a:r>
            <a:r>
              <a:rPr b="0" i="1" lang="en-US" sz="2200" spc="-1" strike="noStrike">
                <a:solidFill>
                  <a:srgbClr val="0033cc"/>
                </a:solidFill>
                <a:latin typeface="Tahoma"/>
                <a:ea typeface="Tahoma"/>
              </a:rPr>
              <a:t>EU/EDF contribution expressed as a percentage of total eligible costs 4 (A/B x 100)</a:t>
            </a:r>
            <a:r>
              <a:rPr b="0" i="1" lang="hr-HR" sz="2200" spc="-1" strike="noStrike">
                <a:solidFill>
                  <a:srgbClr val="0033cc"/>
                </a:solidFill>
                <a:latin typeface="Tahoma"/>
                <a:ea typeface="Tahoma"/>
              </a:rPr>
              <a:t>” 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–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izračunati udjel (% na 2 decimalna mjesta) granta u ukupnim prihvatljivim troškov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95280" y="1052640"/>
          <a:ext cx="8424720" cy="5184720"/>
        </p:xfrm>
        <a:graphic>
          <a:graphicData uri="http://schemas.openxmlformats.org/drawingml/2006/table">
            <a:tbl>
              <a:tblPr/>
              <a:tblGrid>
                <a:gridCol w="2189160"/>
                <a:gridCol w="4129200"/>
                <a:gridCol w="1036440"/>
                <a:gridCol w="1069920"/>
              </a:tblGrid>
              <a:tr h="365400">
                <a:tc gridSpan="2"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xpected sources of funding &amp; summary of estimated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ou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ercen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18360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xpected Contribu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 gridSpan="2"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U/EDF  contribution sought in this application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3600">
                <a:tc gridSpan="2"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ther contributions (Applicant, other EU Funds or EU Member States et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di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360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venue from the Ac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22840">
                <a:tc gridSpan="2"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 be inserted if applicable and allowed by the guidelines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396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-kind contribu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stimated Co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39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stimated TOTAL ELIGIBLE COSTS 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82880">
                <a:tc gridSpan="2"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U/EDF contribution expressed as a percentage of total eligible costs 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A/B x 10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 gridSpan="2"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 case the Basic Act/financing agreement excludes financing of taxes and th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 gridSpan="2"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eneficiary or (partners) can show it cannot reclaim the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396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 gridSpan="2"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stimated TOTAL ACCEPTED COSTS 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019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U/EDF contribution expressed as a percentage of total accepted costs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A/C x 10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ahoma"/>
                <a:ea typeface="Tahoma"/>
              </a:rPr>
              <a:t>Vjež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Još nekoliko savjet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468360" y="1287360"/>
            <a:ext cx="842472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Koristite odgovarajuće mjerne jedini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Neki prijedloz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Za opremu– po kom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Za prijevod – po stranici ili kar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Za simultani ili konsekutivni prijevod – po sa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Za tiskanje/umnožavanje publikacija – po kom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Za reviziju, studije, dizajn i slične outpute koji imaju opipljive rezultate –  ugov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Kada niste sigurni što koristiti kao mj. Jedinicu, pokušajte predvidjeti kako će pravna ili privatna osoba od koje uzimate uslugu, robu ili radove vršiti naplatu, na temelju koje mj. jedin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Još nekoliko savjet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468360" y="1287360"/>
            <a:ext cx="842472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Potrebno je opravdati traženu opremu (oprema mora biti nužna za ostvarenje projek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U proračun treba uključiti trošak revizije i financijske garancije za predujam,  s obzirom na uvjete ugov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Proučiti pravila PRAG-a o sekundarnoj nabavi iz Priloga IV Ugovoru (npr. oprema mora imati Potvrdu o zemlji porijek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Što preciznije je proračun pripremljen, tim učinkovitije se odvija provedba ugovor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itan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Koraci u pripremi proraču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odjela projekta na aktivnosti za koje su potrebna financijska sreds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Na temelju definirane interventne logike, za svaki rezultat pripremiti popis zadata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Izračunati troškove za svaku aktiv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razraditi strukturu izvođenja aktiv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uključiti sve potrebne troškove i izraziti ih u iznosima po stavkama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(osoblje, oprema, uredski materijal, rezerva za nepredviđene troškove, administrativni troškovi, usluge, bankovni troškovi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rocjena troškov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novčani to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iza podataka i izrada proraču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Koraci u pripremi proračuna - Primj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39640" y="1773360"/>
          <a:ext cx="8280360" cy="4572000"/>
        </p:xfrm>
        <a:graphic>
          <a:graphicData uri="http://schemas.openxmlformats.org/drawingml/2006/table">
            <a:tbl>
              <a:tblPr/>
              <a:tblGrid>
                <a:gridCol w="1510200"/>
                <a:gridCol w="218880"/>
                <a:gridCol w="2086200"/>
                <a:gridCol w="218880"/>
                <a:gridCol w="2517480"/>
                <a:gridCol w="218880"/>
                <a:gridCol w="1509840"/>
              </a:tblGrid>
              <a:tr h="580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ktiv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redst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škov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računsko poglavl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913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kacija nastavnog osoblja (3 dana; 10 osoba; nerezidencijal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avači (1 inozemni,  1 lokalni), voditelj projekta, koordinator za edukaciju, materijali za edukaciju, prezentacijske oprema, kava/hrana, smještaj, prijevo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orari za vanjske stručnjake (dani za pripremu, dani za predavanja, dani za izvješće), plaće članova tima za provedbu projekta (zaposleni u instituciji koja provodi projekt; dio plaće), trošak jednog seta materijala x 10, prezentacijska oprema, hrana/kava x broj osoba x broj dana, cijena smještaja x broj dana x broj osoba, cijena prijevoza (autob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Ljudski resur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Putni troškov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Ostali troškovi, uslu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Savje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Odredite količinu svih inputa potrebnih za provedbu svake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Odredite cijene pojedinačnih stavki na temelju istraživanja tržišta (istražite stvarne cijene svih usluga, opreme, materijala i dr. koje navodite u proračun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Kada prikupite sve podatke, možete izraditi proračun za pro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Budite sigurni da ste uključili sve inpute potrebne za provedbu svih aktivnosti jer eventualne dodatne troškove koji nastanu tijekom provedbe projekta pokrivaju prijavitelj i partneri, a ne ugovorno tijelo (don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Savje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Za svaku stavku proračun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moraju se navesti podaci o količini i jediničnim cijenama (jednokratne isplate nisu dozvolje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jer se ne temelje na stvarnom trošk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Cijene za pojedine stavke ne bi smjele prelaziti uobičajene tržišne cij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Količine predviđene u proračunu trebaju biti realistične i u skladu s aktivnostima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Zašto je proračun projekta važ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Proračun projekta je uz plan aktivnosti i logičku matricu najvažniji implementacijski al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Proračun se izrađuje na temelju 3 osnovna princip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3160" indent="-36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Transparentnost trošk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3160" indent="-36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Adekvatnost trošk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3160" indent="-36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Točnost izrač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Prihvatljivi troškov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rez na dodanu vrijednost - samo u slučaju kada prijavitelj ili partneri mogu dokazati da ne mogu povratiti PDV (vidi str. 14 Upu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ezerva za nepredviđene troškove smije biti maksimalno 5% predviđenih ukupnih direktnih prihvatljivih trošk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ndirektni troškovi (tj. administrativni troškovi) smiju iznositi maks. 7% ukupnih direktnih prihvatljivih trošk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jelatnici državnih/javnih institucija (u ulozi prijavitelja i partnera) ne smiju ostvarivati dodatne honorare, već se njihovo sudjelovanje u projektu može samo smatrati sufinanciranjem projekta i navodi se u proraču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1:19:23Z</dcterms:created>
  <dc:creator>mtretinjak</dc:creator>
  <dc:description/>
  <dc:language>en-US</dc:language>
  <cp:lastModifiedBy>Name</cp:lastModifiedBy>
  <dcterms:modified xsi:type="dcterms:W3CDTF">2011-09-30T10:02:23Z</dcterms:modified>
  <cp:revision>374</cp:revision>
  <dc:subject/>
  <dc:title>Slide 1</dc:title>
</cp:coreProperties>
</file>